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569A-6BA3-49CB-97C7-3FD5DD009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812760"/>
            <a:ext cx="9144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0FE4-9C49-484B-A25F-A4AABDEDC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812760"/>
            <a:ext cx="4462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812760"/>
            <a:ext cx="4462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CB79-7FFF-47E6-8135-E305516ED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294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1066320"/>
            <a:ext cx="294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1066320"/>
            <a:ext cx="294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812760"/>
            <a:ext cx="294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812760"/>
            <a:ext cx="294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812760"/>
            <a:ext cx="294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646C-D073-4EE1-BC03-D804FA751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A1BB-138D-46A1-B71C-6CA7F0EFB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FC1B-0A07-4EA0-912F-1FA0A3C60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4675-317D-43AB-9F01-06DEA4899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68B6-EB61-4DFA-908C-4954298BD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-3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C9B4-F18F-44E1-B164-BB6D79254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812760"/>
            <a:ext cx="4462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99C8-CF7D-4298-8528-D7B195C6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812760"/>
            <a:ext cx="4462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F18C-9940-4048-B3C3-F731BE46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812760"/>
            <a:ext cx="9144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A8AB-9E4B-441E-855E-58217D9E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72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26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726"/>
              </a:spcBef>
              <a:buClr>
                <a:srgbClr val="0099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726"/>
              </a:spcBef>
              <a:buClr>
                <a:srgbClr val="ff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-380880">
              <a:spcBef>
                <a:spcPts val="726"/>
              </a:spcBef>
              <a:buClr>
                <a:srgbClr val="008ae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2209680" indent="-3808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2209680" indent="-3808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6760" y="647676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B327A696-D085-4F47-8286-C9D9398B5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sw.w3.org/topic/HCLS/ClinicalObservationsInteroperability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preadsheets.google.com/ccc?key=pINNryLt_vyDiPyHj11WiDg&amp;hl=en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Clinical Observations Interoperability (COI):</a:t>
            </a:r>
            <a:br>
              <a:rPr sz="3000"/>
            </a:b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How can Semantic Web Technologies Help?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6840" y="3124080"/>
            <a:ext cx="80010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pul Kashya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vkashyap1@partners.o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edical Informatician, Clinical Informatics R&amp;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ners Healthcar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9900"/>
                </a:solidFill>
                <a:uFillTx/>
                <a:latin typeface="Times New Roman"/>
                <a:hlinkClick r:id="rId1"/>
              </a:rPr>
              <a:t>http://esw.w3.org/topic/HCLS/ClinicalObservationsInteroperability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nical Observations Interoperability Sessio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CLSIG Face to Fa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ember 8,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mbridge, 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knowledgments: Members of the HCLSIG/COI Task Fo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Shareable Open Source Models of Clinical Data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67480" y="2209680"/>
            <a:ext cx="2192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lthcare Provid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67480" y="3048120"/>
            <a:ext cx="2192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lthcare Provide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rot="5400000">
            <a:off x="933840" y="3803760"/>
            <a:ext cx="612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67480" y="4572000"/>
            <a:ext cx="2242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lthcare Provi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416480" y="1860480"/>
            <a:ext cx="121536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n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D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ID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no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D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315200" y="1986120"/>
            <a:ext cx="1584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nical Tria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315200" y="2824200"/>
            <a:ext cx="1584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nical Tria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rot="5400000">
            <a:off x="7982280" y="3580200"/>
            <a:ext cx="612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315560" y="4348080"/>
            <a:ext cx="1672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nical Trial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2666880" y="3060720"/>
            <a:ext cx="1676520" cy="824040"/>
            <a:chOff x="2666880" y="3060720"/>
            <a:chExt cx="1676520" cy="824040"/>
          </a:xfrm>
        </p:grpSpPr>
        <p:sp>
          <p:nvSpPr>
            <p:cNvPr id="296" name=""/>
            <p:cNvSpPr/>
            <p:nvPr/>
          </p:nvSpPr>
          <p:spPr>
            <a:xfrm>
              <a:off x="2666880" y="3276720"/>
              <a:ext cx="1676520" cy="380880"/>
            </a:xfrm>
            <a:prstGeom prst="leftRightArrow">
              <a:avLst>
                <a:gd name="adj1" fmla="val 50000"/>
                <a:gd name="adj2" fmla="val 8762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974320" y="3060720"/>
              <a:ext cx="12535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linic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bserv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5715000" y="3213000"/>
            <a:ext cx="1676520" cy="824040"/>
            <a:chOff x="5715000" y="3213000"/>
            <a:chExt cx="1676520" cy="824040"/>
          </a:xfrm>
        </p:grpSpPr>
        <p:sp>
          <p:nvSpPr>
            <p:cNvPr id="299" name=""/>
            <p:cNvSpPr/>
            <p:nvPr/>
          </p:nvSpPr>
          <p:spPr>
            <a:xfrm>
              <a:off x="5715000" y="3429000"/>
              <a:ext cx="1676520" cy="380880"/>
            </a:xfrm>
            <a:prstGeom prst="leftRightArrow">
              <a:avLst>
                <a:gd name="adj1" fmla="val 50000"/>
                <a:gd name="adj2" fmla="val 8762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022440" y="3213000"/>
              <a:ext cx="12535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linic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bserv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2208240" y="6095880"/>
            <a:ext cx="4181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0000"/>
                </a:solidFill>
                <a:uFillTx/>
                <a:latin typeface="Times New Roman"/>
              </a:rPr>
              <a:t>Focus of Talk by Tom Onik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Re-use and Alignment of Independently developed Industry Standards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7880" y="1295280"/>
            <a:ext cx="372420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DC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SystolicBloodPressureMeasur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subClass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key </a:t>
            </a: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value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“SnomedCodeForSystolicBP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00"/>
                </a:solidFill>
                <a:latin typeface="Times New Roman"/>
              </a:rPr>
              <a:t>and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magnitude </a:t>
            </a: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only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float[&gt;= 0.0, &lt;= 220.0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00"/>
                </a:solidFill>
                <a:latin typeface="Times New Roman"/>
              </a:rPr>
              <a:t>and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units </a:t>
            </a: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value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HL7:PQ:mmH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430880" y="1219320"/>
            <a:ext cx="312516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SDT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SystolicBloodPressureMeasur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equivalent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VSTE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00"/>
                </a:solidFill>
                <a:latin typeface="Times New Roman"/>
              </a:rPr>
              <a:t>that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VSTESTCD </a:t>
            </a: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value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“SYSBP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00"/>
                </a:solidFill>
                <a:latin typeface="Times New Roman"/>
              </a:rPr>
              <a:t>and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VSORRESU </a:t>
            </a: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value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mmH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28600" y="3200400"/>
            <a:ext cx="82296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Alignment/Mapping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DCM:SystolicBloodPressureMeasurement </a:t>
            </a: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equivalent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SDTM:VSTEST </a:t>
            </a:r>
            <a:r>
              <a:rPr b="0" lang="en-US" sz="1600" spc="-1" strike="noStrike">
                <a:solidFill>
                  <a:srgbClr val="00cc00"/>
                </a:solidFill>
                <a:latin typeface="Times New Roman"/>
              </a:rPr>
              <a:t>that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VSTESTCD </a:t>
            </a: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value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“NCITCodeForSYSBP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DCM:key </a:t>
            </a: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equivalentProperty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SDTM:VSTESTC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DCM:units </a:t>
            </a: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equivalentProperty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VSORRES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DCM:magnitude </a:t>
            </a: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equivalentProperty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VSSOR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SDTM:SYSBP </a:t>
            </a: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sameAs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“NCITCodeForSYSBP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SnomedCodeForSystolicBP” </a:t>
            </a: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sameAs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“NCITCodeForSYSBP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HL7:PQ:mmHg </a:t>
            </a: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sameAs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VSORRESU:mmH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362320" y="2863800"/>
            <a:ext cx="1523880" cy="41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5028840" y="2787480"/>
            <a:ext cx="1523880" cy="48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28600" y="3276720"/>
            <a:ext cx="8305920" cy="32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4582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Enabling Clinical Observations Interoperability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08880" y="2604960"/>
            <a:ext cx="10249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t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id = URI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11760" y="1538280"/>
            <a:ext cx="7736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r. X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0560" y="199548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366280" y="2604960"/>
            <a:ext cx="12445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ystolic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asurement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295280" y="2895480"/>
            <a:ext cx="1067040" cy="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370160" y="2529000"/>
            <a:ext cx="94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ystolic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85800" y="184320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52280" y="1447920"/>
            <a:ext cx="4267440" cy="350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00200" y="4633920"/>
            <a:ext cx="11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MR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505600" y="1523880"/>
            <a:ext cx="586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1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895480" y="184320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968560" y="2071800"/>
            <a:ext cx="127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ording_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10320" y="3505320"/>
            <a:ext cx="487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12320" y="3962520"/>
            <a:ext cx="2462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nomedCodeForSystolicB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846000" y="4114800"/>
            <a:ext cx="743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mH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838080" y="3124080"/>
            <a:ext cx="19051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3124080"/>
            <a:ext cx="83808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1142640" y="3124080"/>
            <a:ext cx="1600200" cy="99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879640" y="34146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912960" y="3276720"/>
            <a:ext cx="9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gnitu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145880" y="3657600"/>
            <a:ext cx="53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988360" y="3429000"/>
            <a:ext cx="43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804920" y="2604960"/>
            <a:ext cx="10249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t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id = URI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807440" y="1538280"/>
            <a:ext cx="7736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r. X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106600" y="199548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861960" y="2604960"/>
            <a:ext cx="12445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ystolic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asurement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791320" y="2895480"/>
            <a:ext cx="1066680" cy="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66200" y="2529000"/>
            <a:ext cx="94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ystolic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181480" y="184320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648320" y="1447920"/>
            <a:ext cx="4267080" cy="350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998400" y="4633920"/>
            <a:ext cx="189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nical Trials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001280" y="1523880"/>
            <a:ext cx="586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2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391520" y="184320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464240" y="2071800"/>
            <a:ext cx="127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ording_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806360" y="3505320"/>
            <a:ext cx="487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406560" y="3962520"/>
            <a:ext cx="1985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CITCodeForSYSB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342040" y="4114800"/>
            <a:ext cx="743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mH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5334120" y="3124080"/>
            <a:ext cx="190476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238880" y="3124080"/>
            <a:ext cx="83844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5638320" y="3124080"/>
            <a:ext cx="1600200" cy="99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375680" y="34146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411520" y="3276720"/>
            <a:ext cx="98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OR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643720" y="3657600"/>
            <a:ext cx="110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ORRE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484760" y="3429000"/>
            <a:ext cx="107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TESTC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447920" y="3200400"/>
            <a:ext cx="4343400" cy="152280"/>
          </a:xfrm>
          <a:custGeom>
            <a:avLst/>
            <a:gdLst/>
            <a:ahLst/>
            <a:rect l="l" t="t" r="r" b="b"/>
            <a:pathLst>
              <a:path w="2592" h="312">
                <a:moveTo>
                  <a:pt x="0" y="312"/>
                </a:moveTo>
                <a:cubicBezTo>
                  <a:pt x="744" y="180"/>
                  <a:pt x="1488" y="48"/>
                  <a:pt x="1920" y="24"/>
                </a:cubicBezTo>
                <a:cubicBezTo>
                  <a:pt x="2352" y="0"/>
                  <a:pt x="2472" y="84"/>
                  <a:pt x="2592" y="1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371600" y="3657600"/>
            <a:ext cx="3962520" cy="533520"/>
          </a:xfrm>
          <a:custGeom>
            <a:avLst/>
            <a:gdLst/>
            <a:ahLst/>
            <a:rect l="l" t="t" r="r" b="b"/>
            <a:pathLst>
              <a:path w="2496" h="336">
                <a:moveTo>
                  <a:pt x="0" y="288"/>
                </a:moveTo>
                <a:cubicBezTo>
                  <a:pt x="92" y="188"/>
                  <a:pt x="184" y="88"/>
                  <a:pt x="480" y="48"/>
                </a:cubicBezTo>
                <a:cubicBezTo>
                  <a:pt x="776" y="8"/>
                  <a:pt x="1440" y="0"/>
                  <a:pt x="1776" y="48"/>
                </a:cubicBezTo>
                <a:cubicBezTo>
                  <a:pt x="2112" y="96"/>
                  <a:pt x="2304" y="216"/>
                  <a:pt x="2496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4267080"/>
            <a:ext cx="3644640" cy="457200"/>
          </a:xfrm>
          <a:custGeom>
            <a:avLst/>
            <a:gdLst/>
            <a:ahLst/>
            <a:rect l="l" t="t" r="r" b="b"/>
            <a:pathLst>
              <a:path w="2296" h="288">
                <a:moveTo>
                  <a:pt x="0" y="0"/>
                </a:moveTo>
                <a:cubicBezTo>
                  <a:pt x="772" y="144"/>
                  <a:pt x="1544" y="288"/>
                  <a:pt x="1920" y="288"/>
                </a:cubicBezTo>
                <a:cubicBezTo>
                  <a:pt x="2296" y="288"/>
                  <a:pt x="2276" y="144"/>
                  <a:pt x="225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-360" y="759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Enabling Clinical Observations Interoperability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08880" y="2604960"/>
            <a:ext cx="10249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t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id = URI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11760" y="1538280"/>
            <a:ext cx="7736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r. X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10560" y="199548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763080" y="4164120"/>
            <a:ext cx="12445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ystolic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asurement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295280" y="243828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370160" y="2529000"/>
            <a:ext cx="94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ystolic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" y="184320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902400" y="3083040"/>
            <a:ext cx="586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1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292640" y="3402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365720" y="3630600"/>
            <a:ext cx="127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ording_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967920" y="5486400"/>
            <a:ext cx="487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 flipV="1">
            <a:off x="4140000" y="468324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871240" y="2224080"/>
            <a:ext cx="12445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ystolic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asurement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010920" y="1143000"/>
            <a:ext cx="586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2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400800" y="146196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473880" y="1690560"/>
            <a:ext cx="127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ording_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253920" y="3429000"/>
            <a:ext cx="487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6248160" y="274284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384960" y="303372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209680" y="2057400"/>
            <a:ext cx="114300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682280" y="1143000"/>
            <a:ext cx="8344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mHg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051720" y="1143000"/>
            <a:ext cx="19242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CITCodeForSYSBP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057400" y="144792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2590560" y="144792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352680" y="2286000"/>
            <a:ext cx="251460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895480" y="2438280"/>
            <a:ext cx="838440" cy="2057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774040" y="2982960"/>
            <a:ext cx="9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gnitu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732480" y="4876920"/>
            <a:ext cx="9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gnitu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Merged Patient Data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93640" y="1311120"/>
            <a:ext cx="18432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24880" y="1281240"/>
            <a:ext cx="5104800" cy="51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http:URIForPatient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df:type DCM:Pat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CM:name “Mr. X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CM:systolicBP DCM:systolicBPMeasu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CM:systolicBPMeasu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df:type Col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CM:units mmH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CM:key   “SnomedCodeForSystolicBP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df:_1 _:SystolicBPMeasuremen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df:_2 _:SystolicBPMeasuremen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_:SystolicBPMeasurement1 DCM:recordingTime 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_:SystolicBPMeasurement1 DCM:magnitude 1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_:SystolicBPMeasurement2 DCM:recordingTime 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_:SystolicBPMeasurement2 DCM:magnitude 1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Multiple ways of saying the same thing!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373760" y="1295280"/>
            <a:ext cx="173520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tient Record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= Mr.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ording Time = T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Weight = 70 K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WeightType = “Dry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031360" y="1295280"/>
            <a:ext cx="173520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tient Record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= Mr.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ording Time = T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DryWeight = 70 K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689120" y="4165560"/>
            <a:ext cx="487476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Assert the following Mapp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DryWeight </a:t>
            </a: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equivalentClass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Weight </a:t>
            </a:r>
            <a:r>
              <a:rPr b="0" lang="en-US" sz="1600" spc="-1" strike="noStrike">
                <a:solidFill>
                  <a:srgbClr val="00cc00"/>
                </a:solidFill>
                <a:latin typeface="Times New Roman"/>
              </a:rPr>
              <a:t>that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type value “Dry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The OWL Ontology Engine will infer the re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824480" y="3024360"/>
            <a:ext cx="47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e these two weight measurements comparab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505320" y="1828800"/>
            <a:ext cx="1143000" cy="304920"/>
          </a:xfrm>
          <a:prstGeom prst="leftRightArrow">
            <a:avLst>
              <a:gd name="adj1" fmla="val 50000"/>
              <a:gd name="adj2" fmla="val 74623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3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3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Precise Protocol Specification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Prophylactic Irradiation to the Contralateral Breast for BRCA Mutation Carriers Undergoing Treatment for Breast Canc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http://www.clinicaltrials.gov/ct/show/NCT00496288?order=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Ages Eligible for Study:  30 Years   -   90 Years, Genders Eligible for Study:  Female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Inclusion Criteria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47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Female patient diagnosed with stage I-III breast cancer (AJCC 6), undergoing breast irradiation as part of her adjuvant therapy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47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e patient must be a carrier of a deleterious mutation in BRCA 1/2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47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Exclusion Criteria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47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Metastatic breast cancer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47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Previous irradiation of the breast or chest wall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47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Pregnancy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47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Patients with active connective tissue diseases are excluded due to the potential risk of significant radiotherapy toxicity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47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Precise Protocol Specification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t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th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Age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onl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loat[&gt;=30, &lt;=60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Gender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“Femal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Diagnosis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so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ageI-IIIBreastCan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Therapy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so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reastIrrad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Mutation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so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mutationType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leterious 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utationGene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RCA1/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hasDiagnosis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so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BreastCancer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 tha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cerType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astatic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no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hasTherapy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so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rradiation 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th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Location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so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Chest 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reastWall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hasCondition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so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egnanc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hasDisease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so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Disease 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th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Location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so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nnectiveTiss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ype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ctive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Times New Roman"/>
              </a:rPr>
              <a:t>Focus of Next Talk by Chintan Pat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Approximate Matching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ubsumption reasoning helps match patients against BreastIrradiationTherapy and it’s subclasses as opposed to a String match with “BreastIrradiationTherapy”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ystematic query weakening by dropping logical conditions can be used to identify more patients who can later be filtered based on further testing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any ways of stating the same thing”: Infer eligibility based on patient data that doesn’t explicitly assert data satisfying a logical condition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Identify Patients in the absence of explicit data about a clinical condition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374480" y="1295280"/>
            <a:ext cx="18115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tient Record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= Mr.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ease = Hemat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or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028480" y="1295280"/>
            <a:ext cx="2503440" cy="137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tient Record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= Mr. 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ypereosinophily = 2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sytosis =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lood Lymphocytes = ATyp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689120" y="4165560"/>
            <a:ext cx="3944880" cy="228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3300"/>
                </a:solidFill>
                <a:uFillTx/>
                <a:latin typeface="Times New Roman"/>
              </a:rPr>
              <a:t>Assert the following Mapp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PatientWithHematologyDisord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equivalent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Pat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00"/>
                </a:solidFill>
                <a:latin typeface="Times New Roman"/>
              </a:rPr>
              <a:t>that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hypereosinophily </a:t>
            </a: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only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float[&gt;1.5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00"/>
                </a:solidFill>
                <a:latin typeface="Times New Roman"/>
              </a:rPr>
              <a:t>and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lymphosytosis </a:t>
            </a: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only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float [&gt; 5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00"/>
                </a:solidFill>
                <a:latin typeface="Times New Roman"/>
              </a:rPr>
              <a:t>and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bloodLymphocytes </a:t>
            </a: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value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ATyp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The OWL Ontology Engine will infer the re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824120" y="3024360"/>
            <a:ext cx="538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ich of these two patients have Hematology Disord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505320" y="1828800"/>
            <a:ext cx="1143000" cy="304920"/>
          </a:xfrm>
          <a:prstGeom prst="leftRightArrow">
            <a:avLst>
              <a:gd name="adj1" fmla="val 50000"/>
              <a:gd name="adj2" fmla="val 74623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3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3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46840" indent="-546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lthcare and Life Sciences (HCLS): A Taxonom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-546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CLS Ecosystem: Current and Goal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-546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Cases and Functional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-546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ole of Semantic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Co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Exchange and Interope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utable Protocol Spec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Retrie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-546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-546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ing Attraction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-546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Conclusions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62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ritical Need to Align Data, Information and Knowledge across the HCLS Eco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spcBef>
                <a:spcPts val="62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linical Observations Interoperability is a critical enabl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spcBef>
                <a:spcPts val="62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Need for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sharable web based specifications and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antic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spcBef>
                <a:spcPts val="62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nitial Analysis seem to suggest the feasibility and applicability of Semantic Web technologie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Coming Attractions!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46840" indent="-54684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Patient Recruitment Use Case: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chel Riches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-54684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Open Source Detailed Clinical Models: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m Oni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-54684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Demo: Semantic DB System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mezie Ogbu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-54684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Demo: SHER System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ntan Pat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Next Steps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ere is a critical need to develop a collaborative framework of various stakeholders such as healthcare providers, pharmaceuticals and IT vendors to address this important problem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Goal: To build consensus and seek participation (time, resources, money!) of these stakeholders to develop a POC that demonstrates feasibility and validates the value proposition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Brainstorming Session: 4:30pm – 5:30pm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Healthcare and Life Sciences: A Taxonomy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08520" y="1788840"/>
            <a:ext cx="8122320" cy="4370040"/>
            <a:chOff x="308520" y="1788840"/>
            <a:chExt cx="8122320" cy="4370040"/>
          </a:xfrm>
        </p:grpSpPr>
        <p:sp>
          <p:nvSpPr>
            <p:cNvPr id="47" name=""/>
            <p:cNvSpPr/>
            <p:nvPr/>
          </p:nvSpPr>
          <p:spPr>
            <a:xfrm>
              <a:off x="4876920" y="2438280"/>
              <a:ext cx="1676160" cy="160020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76520" y="2057400"/>
              <a:ext cx="0" cy="320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676520" y="5257800"/>
              <a:ext cx="472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584360" y="521820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03080" y="5334120"/>
              <a:ext cx="115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6280" y="5410080"/>
              <a:ext cx="10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act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36760" y="4724280"/>
              <a:ext cx="91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nic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8520" y="2286000"/>
              <a:ext cx="115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iologic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1434960" y="1788840"/>
              <a:ext cx="6274080" cy="4370040"/>
              <a:chOff x="1434960" y="1788840"/>
              <a:chExt cx="6274080" cy="4370040"/>
            </a:xfrm>
          </p:grpSpPr>
          <p:sp>
            <p:nvSpPr>
              <p:cNvPr id="56" name="_s559118"/>
              <p:cNvSpPr/>
              <p:nvPr/>
            </p:nvSpPr>
            <p:spPr>
              <a:xfrm>
                <a:off x="3724200" y="2382840"/>
                <a:ext cx="1697040" cy="1697040"/>
              </a:xfrm>
              <a:prstGeom prst="ellipse">
                <a:avLst/>
              </a:prstGeom>
              <a:solidFill>
                <a:srgbClr val="0000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_s559119"/>
              <p:cNvSpPr/>
              <p:nvPr/>
            </p:nvSpPr>
            <p:spPr>
              <a:xfrm>
                <a:off x="3724200" y="1788840"/>
                <a:ext cx="1697040" cy="42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iomedical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Research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_s559120"/>
              <p:cNvSpPr/>
              <p:nvPr/>
            </p:nvSpPr>
            <p:spPr>
              <a:xfrm>
                <a:off x="4282920" y="3350880"/>
                <a:ext cx="1697040" cy="1697040"/>
              </a:xfrm>
              <a:prstGeom prst="ellipse">
                <a:avLst/>
              </a:prstGeom>
              <a:solidFill>
                <a:srgbClr val="ff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_s559121"/>
              <p:cNvSpPr/>
              <p:nvPr/>
            </p:nvSpPr>
            <p:spPr>
              <a:xfrm>
                <a:off x="6012000" y="4706640"/>
                <a:ext cx="1697040" cy="42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linic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act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_s559122"/>
              <p:cNvSpPr/>
              <p:nvPr/>
            </p:nvSpPr>
            <p:spPr>
              <a:xfrm>
                <a:off x="3165480" y="3350880"/>
                <a:ext cx="1697040" cy="1697040"/>
              </a:xfrm>
              <a:prstGeom prst="ellipse">
                <a:avLst/>
              </a:prstGeom>
              <a:solidFill>
                <a:srgbClr val="77777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_s559123"/>
              <p:cNvSpPr/>
              <p:nvPr/>
            </p:nvSpPr>
            <p:spPr>
              <a:xfrm>
                <a:off x="1434960" y="4706640"/>
                <a:ext cx="1697040" cy="42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linic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Research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961080" y="5638680"/>
                <a:ext cx="1280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ersonalize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edicin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" name=""/>
            <p:cNvSpPr/>
            <p:nvPr/>
          </p:nvSpPr>
          <p:spPr>
            <a:xfrm>
              <a:off x="1902960" y="2514600"/>
              <a:ext cx="129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anslatio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edic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2666880" y="2971440"/>
              <a:ext cx="13716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572000" y="380988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306840" y="2220840"/>
              <a:ext cx="1310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ublic Healt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sear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931800" y="3048120"/>
              <a:ext cx="149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iosurveill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5181480" y="3200400"/>
              <a:ext cx="18288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1676520" y="2438280"/>
            <a:ext cx="167616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57600" y="5638680"/>
            <a:ext cx="190512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HCLS Ecosystem: Current State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077320" y="4311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7696080" y="5302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510720" y="3244680"/>
            <a:ext cx="1581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harmaceut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ompan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 rot="10800000">
            <a:off x="3352680" y="4386600"/>
            <a:ext cx="21924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linical Re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Organizations (CR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267080" y="38541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800600" y="2558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35120" y="2406600"/>
            <a:ext cx="586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F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0680" y="2482920"/>
            <a:ext cx="17960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National Institu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Of Heal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33280" y="3701880"/>
            <a:ext cx="1017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Hospit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67080" y="4997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45560" y="4448160"/>
            <a:ext cx="183132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Universiti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cademic Med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enters (AMC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092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30924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760" y="1263600"/>
            <a:ext cx="545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haracterized by silos with uncoordina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upply chains leading to inefficiencies in the syst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409440" y="3092400"/>
            <a:ext cx="10814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enter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is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7010280" y="3930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6934320" y="24825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37240" y="4905360"/>
            <a:ext cx="1017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Hospit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50640" y="4921200"/>
            <a:ext cx="8802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o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78520" y="3930480"/>
            <a:ext cx="8132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y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320960" y="5987880"/>
            <a:ext cx="9151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t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711840" y="1873080"/>
            <a:ext cx="971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tient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16000" y="5835600"/>
            <a:ext cx="9151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t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73200" y="2178000"/>
            <a:ext cx="9151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t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324480" y="1797120"/>
            <a:ext cx="2362320" cy="464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09880" y="2711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76720" y="1949400"/>
            <a:ext cx="236196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320" y="2254320"/>
            <a:ext cx="2743200" cy="32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560" y="5530680"/>
            <a:ext cx="210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Biomedical Re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linical Pract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5280" y="6369120"/>
            <a:ext cx="231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linical Trials/Re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551640" y="6445080"/>
            <a:ext cx="162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linical Pract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Times New Roman"/>
              </a:rPr>
              <a:t>HCLS Ecosystem: Goal State</a:t>
            </a:r>
            <a:endParaRPr b="0" lang="en-US" sz="3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14760" y="3292560"/>
            <a:ext cx="15829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tients, 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91320" y="3673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10200" y="4359240"/>
            <a:ext cx="1017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Hospit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23240" y="4359240"/>
            <a:ext cx="8802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o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68840" y="5425920"/>
            <a:ext cx="8132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y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943600" y="4739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49720" y="1311120"/>
            <a:ext cx="619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39000" y="4343400"/>
            <a:ext cx="7322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14800" y="4511520"/>
            <a:ext cx="99072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53520" y="2530440"/>
            <a:ext cx="1581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harmaceut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ompan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657600" y="313956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95880" y="1463760"/>
            <a:ext cx="1752840" cy="2819160"/>
          </a:xfrm>
          <a:custGeom>
            <a:avLst/>
            <a:gdLst/>
            <a:ahLst/>
            <a:rect l="l" t="t" r="r" b="b"/>
            <a:pathLst>
              <a:path w="1104" h="1776">
                <a:moveTo>
                  <a:pt x="0" y="1776"/>
                </a:moveTo>
                <a:cubicBezTo>
                  <a:pt x="348" y="1680"/>
                  <a:pt x="696" y="1584"/>
                  <a:pt x="864" y="1344"/>
                </a:cubicBezTo>
                <a:cubicBezTo>
                  <a:pt x="1032" y="1104"/>
                  <a:pt x="1104" y="560"/>
                  <a:pt x="1008" y="336"/>
                </a:cubicBezTo>
                <a:cubicBezTo>
                  <a:pt x="912" y="112"/>
                  <a:pt x="600" y="56"/>
                  <a:pt x="28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48520" y="161604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20920" y="1311120"/>
            <a:ext cx="586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F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24280" y="146376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962520" y="1616040"/>
            <a:ext cx="457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19720" y="1616040"/>
            <a:ext cx="167616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60040" y="1235160"/>
            <a:ext cx="11836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NI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(Resear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95400" y="2606760"/>
            <a:ext cx="12888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Universiti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M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1828800" y="184464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971440" y="146376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0" y="2911320"/>
            <a:ext cx="76212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86200" y="3139920"/>
            <a:ext cx="1371600" cy="12193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733920" y="3444840"/>
            <a:ext cx="16761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1692360"/>
            <a:ext cx="1828800" cy="838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09680" y="3216240"/>
            <a:ext cx="1067040" cy="12193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6400440" y="5562720"/>
            <a:ext cx="106668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454880" y="5394240"/>
            <a:ext cx="166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 FDA, C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200" y="5791320"/>
            <a:ext cx="6492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Times New Roman"/>
              </a:rPr>
              <a:t>Clinical Observations Interoperability will be 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Times New Roman"/>
              </a:rPr>
              <a:t>Critical Enabler to realize this Vision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Use Cases and Functional Requirements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rcRect l="0" t="14065" r="26875" b="46875"/>
          <a:stretch/>
        </p:blipFill>
        <p:spPr>
          <a:xfrm>
            <a:off x="0" y="1066680"/>
            <a:ext cx="8915400" cy="38102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42920" y="5105520"/>
            <a:ext cx="8826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 identifies the Use Cases, Systems and Functional Requirement under consideration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I Task 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e Functional Requirements Specification developed  by EHRVA/HIM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vailable at </a:t>
            </a:r>
            <a:r>
              <a:rPr b="0" lang="en-US" sz="1800" spc="-1" strike="noStrike" u="sng">
                <a:solidFill>
                  <a:srgbClr val="ff9900"/>
                </a:solidFill>
                <a:uFillTx/>
                <a:latin typeface="Times New Roman"/>
                <a:hlinkClick r:id="rId2"/>
              </a:rPr>
              <a:t>http://spreadsheets.google.com/ccc?key=pINNryLt_vyDiPyHj11WiDg&amp;hl=e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 Google Spreadshe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Use Case: Patient Screening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303120" y="685800"/>
            <a:ext cx="7543800" cy="5646600"/>
            <a:chOff x="303120" y="685800"/>
            <a:chExt cx="7543800" cy="5646600"/>
          </a:xfrm>
        </p:grpSpPr>
        <p:sp>
          <p:nvSpPr>
            <p:cNvPr id="138" name=""/>
            <p:cNvSpPr/>
            <p:nvPr/>
          </p:nvSpPr>
          <p:spPr>
            <a:xfrm>
              <a:off x="303120" y="685800"/>
              <a:ext cx="7543800" cy="564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3824280" y="1251000"/>
              <a:ext cx="1508040" cy="627120"/>
              <a:chOff x="3824280" y="1251000"/>
              <a:chExt cx="1508040" cy="627120"/>
            </a:xfrm>
          </p:grpSpPr>
          <p:sp>
            <p:nvSpPr>
              <p:cNvPr id="140" name=""/>
              <p:cNvSpPr/>
              <p:nvPr/>
            </p:nvSpPr>
            <p:spPr>
              <a:xfrm>
                <a:off x="3824280" y="1251000"/>
                <a:ext cx="1508040" cy="627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824280" y="1251000"/>
                <a:ext cx="1508040" cy="627120"/>
              </a:xfrm>
              <a:prstGeom prst="rect">
                <a:avLst/>
              </a:prstGeom>
              <a:noFill/>
              <a:ln cap="rnd"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3908160" y="1305000"/>
              <a:ext cx="34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linic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909960" y="1413000"/>
              <a:ext cx="35100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85080" y="1305000"/>
              <a:ext cx="404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Resear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287960" y="1413000"/>
              <a:ext cx="4125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723920" y="1305000"/>
              <a:ext cx="372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Protoco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727520" y="1413000"/>
              <a:ext cx="37800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903840" y="1433520"/>
              <a:ext cx="790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Eligibility Criteria: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65040" y="15555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25160" y="1555560"/>
              <a:ext cx="404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Inclus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65040" y="168120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024080" y="1681200"/>
              <a:ext cx="429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Exclus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2881440" y="2379600"/>
              <a:ext cx="3646440" cy="1138320"/>
              <a:chOff x="2881440" y="2379600"/>
              <a:chExt cx="3646440" cy="1138320"/>
            </a:xfrm>
          </p:grpSpPr>
          <p:grpSp>
            <p:nvGrpSpPr>
              <p:cNvPr id="154" name=""/>
              <p:cNvGrpSpPr/>
              <p:nvPr/>
            </p:nvGrpSpPr>
            <p:grpSpPr>
              <a:xfrm>
                <a:off x="2881440" y="2379600"/>
                <a:ext cx="3646440" cy="1138320"/>
                <a:chOff x="2881440" y="2379600"/>
                <a:chExt cx="3646440" cy="113832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2881440" y="2379600"/>
                  <a:ext cx="3646440" cy="1138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881440" y="2379600"/>
                  <a:ext cx="3646440" cy="1138320"/>
                </a:xfrm>
                <a:prstGeom prst="rect">
                  <a:avLst/>
                </a:prstGeom>
                <a:noFill/>
                <a:ln cap="rnd"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4249800" y="2587680"/>
                <a:ext cx="892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EMR DATA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013280" y="2827440"/>
                <a:ext cx="879480" cy="271440"/>
              </a:xfrm>
              <a:prstGeom prst="rect">
                <a:avLst/>
              </a:prstGeom>
              <a:noFill/>
              <a:ln cap="rnd"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097880" y="2886120"/>
                <a:ext cx="374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e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956120" y="2827440"/>
                <a:ext cx="1068480" cy="271440"/>
              </a:xfrm>
              <a:prstGeom prst="rect">
                <a:avLst/>
              </a:prstGeom>
              <a:noFill/>
              <a:ln cap="rnd"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038920" y="2886120"/>
                <a:ext cx="782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rocedur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3384720" y="3141720"/>
                <a:ext cx="1193760" cy="271440"/>
                <a:chOff x="3384720" y="3141720"/>
                <a:chExt cx="1193760" cy="2714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3384720" y="3141720"/>
                  <a:ext cx="1193760" cy="271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3384720" y="3141720"/>
                  <a:ext cx="1193760" cy="271440"/>
                </a:xfrm>
                <a:prstGeom prst="rect">
                  <a:avLst/>
                </a:prstGeom>
                <a:noFill/>
                <a:ln cap="rnd"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"/>
              <p:cNvSpPr/>
              <p:nvPr/>
            </p:nvSpPr>
            <p:spPr>
              <a:xfrm>
                <a:off x="3466800" y="3200400"/>
                <a:ext cx="723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iagnos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195720" y="2513160"/>
                <a:ext cx="879480" cy="272880"/>
              </a:xfrm>
              <a:prstGeom prst="rect">
                <a:avLst/>
              </a:prstGeom>
              <a:noFill/>
              <a:ln cap="rnd"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703760" y="3141720"/>
                <a:ext cx="1320840" cy="271440"/>
              </a:xfrm>
              <a:prstGeom prst="rect">
                <a:avLst/>
              </a:prstGeom>
              <a:noFill/>
              <a:ln cap="rnd"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787640" y="3200400"/>
                <a:ext cx="985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emographic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086520" y="2827440"/>
                <a:ext cx="252360" cy="347400"/>
              </a:xfrm>
              <a:prstGeom prst="rect">
                <a:avLst/>
              </a:prstGeom>
              <a:noFill/>
              <a:ln cap="rnd"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457960" y="2513160"/>
                <a:ext cx="880920" cy="272880"/>
              </a:xfrm>
              <a:prstGeom prst="rect">
                <a:avLst/>
              </a:prstGeom>
              <a:noFill/>
              <a:ln cap="rnd"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006720" y="2827440"/>
                <a:ext cx="879480" cy="271440"/>
              </a:xfrm>
              <a:prstGeom prst="rect">
                <a:avLst/>
              </a:prstGeom>
              <a:noFill/>
              <a:ln cap="rnd"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870120" y="4889520"/>
              <a:ext cx="314280" cy="376200"/>
            </a:xfrm>
            <a:custGeom>
              <a:avLst/>
              <a:gdLst/>
              <a:ahLst/>
              <a:rect l="l" t="t" r="r" b="b"/>
              <a:pathLst>
                <a:path w="198" h="237">
                  <a:moveTo>
                    <a:pt x="0" y="178"/>
                  </a:moveTo>
                  <a:lnTo>
                    <a:pt x="49" y="178"/>
                  </a:lnTo>
                  <a:lnTo>
                    <a:pt x="49" y="0"/>
                  </a:lnTo>
                  <a:lnTo>
                    <a:pt x="148" y="0"/>
                  </a:lnTo>
                  <a:lnTo>
                    <a:pt x="148" y="178"/>
                  </a:lnTo>
                  <a:lnTo>
                    <a:pt x="198" y="178"/>
                  </a:lnTo>
                  <a:lnTo>
                    <a:pt x="99" y="237"/>
                  </a:lnTo>
                  <a:lnTo>
                    <a:pt x="0" y="178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03440" y="4137120"/>
              <a:ext cx="5154840" cy="1952640"/>
              <a:chOff x="2503440" y="4137120"/>
              <a:chExt cx="5154840" cy="1952640"/>
            </a:xfrm>
          </p:grpSpPr>
          <p:sp>
            <p:nvSpPr>
              <p:cNvPr id="174" name=""/>
              <p:cNvSpPr/>
              <p:nvPr/>
            </p:nvSpPr>
            <p:spPr>
              <a:xfrm>
                <a:off x="7421400" y="555948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676200" y="5560920"/>
                <a:ext cx="165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ai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742360" y="5560920"/>
                <a:ext cx="2293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as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910760" y="5560920"/>
                <a:ext cx="2293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as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163400" y="5560920"/>
                <a:ext cx="506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/8 criteria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163400" y="5686560"/>
                <a:ext cx="1713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371400" y="5560920"/>
                <a:ext cx="177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Y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503440" y="5514840"/>
                <a:ext cx="792360" cy="3254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583360" y="5560920"/>
                <a:ext cx="3952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03333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421400" y="588636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676920" y="588636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743440" y="588636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911480" y="588636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163760" y="588636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71760" y="588636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503440" y="5840280"/>
                <a:ext cx="792360" cy="249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581200" y="588636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675840" y="5235480"/>
                <a:ext cx="2293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as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675840" y="4911840"/>
                <a:ext cx="2293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as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676920" y="4183200"/>
                <a:ext cx="4701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riteria #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674760" y="4333680"/>
                <a:ext cx="514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Pass/Fail/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676920" y="4459320"/>
                <a:ext cx="555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esearcher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676920" y="4584600"/>
                <a:ext cx="4381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eeds to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676920" y="4710240"/>
                <a:ext cx="4320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valuate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421400" y="523224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421400" y="490680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421400" y="418140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742720" y="5235480"/>
                <a:ext cx="165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ai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910760" y="5235480"/>
                <a:ext cx="2293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as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163400" y="5235480"/>
                <a:ext cx="506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/8 criteria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163400" y="5361120"/>
                <a:ext cx="1713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371760" y="5235480"/>
                <a:ext cx="1591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o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503440" y="5189400"/>
                <a:ext cx="792360" cy="3254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583360" y="5235480"/>
                <a:ext cx="3952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02222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742360" y="4911840"/>
                <a:ext cx="2293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as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743440" y="4183200"/>
                <a:ext cx="628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o Criteria #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741280" y="4333680"/>
                <a:ext cx="514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Pass/Fail/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743440" y="4459320"/>
                <a:ext cx="555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esearcher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743440" y="4584600"/>
                <a:ext cx="4381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eeds to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743440" y="4710240"/>
                <a:ext cx="4320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valuate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910760" y="4911840"/>
                <a:ext cx="2581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ass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163400" y="4911840"/>
                <a:ext cx="506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6/8 criteria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163400" y="5037120"/>
                <a:ext cx="1713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371400" y="4911840"/>
                <a:ext cx="177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Y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503440" y="4863960"/>
                <a:ext cx="792360" cy="3254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583360" y="4911840"/>
                <a:ext cx="3952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01111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911840" y="4183200"/>
                <a:ext cx="4701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riteria #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909320" y="4333680"/>
                <a:ext cx="514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Pass/Fail/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911840" y="4459320"/>
                <a:ext cx="555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esearcher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911840" y="4584600"/>
                <a:ext cx="4381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eeds to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911840" y="4710240"/>
                <a:ext cx="4320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valuate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163400" y="4183200"/>
                <a:ext cx="442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# Criteria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162680" y="4308480"/>
                <a:ext cx="514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et / Total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163040" y="4433760"/>
                <a:ext cx="465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riteria in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163760" y="4559400"/>
                <a:ext cx="375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rotoco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370680" y="4183200"/>
                <a:ext cx="502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otentially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371040" y="4308480"/>
                <a:ext cx="506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ligible for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371400" y="4433760"/>
                <a:ext cx="375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rotoco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503440" y="4137120"/>
                <a:ext cx="792360" cy="7268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580480" y="4183200"/>
                <a:ext cx="592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atient MR #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503440" y="4137120"/>
                <a:ext cx="5154840" cy="0"/>
              </a:xfrm>
              <a:prstGeom prst="line">
                <a:avLst/>
              </a:prstGeom>
              <a:ln cap="sq"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503440" y="4863960"/>
                <a:ext cx="5154840" cy="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503440" y="5189400"/>
                <a:ext cx="5154840" cy="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503440" y="6089760"/>
                <a:ext cx="5154840" cy="0"/>
              </a:xfrm>
              <a:prstGeom prst="line">
                <a:avLst/>
              </a:prstGeom>
              <a:ln cap="sq"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503440" y="4137120"/>
                <a:ext cx="0" cy="1952640"/>
              </a:xfrm>
              <a:prstGeom prst="line">
                <a:avLst/>
              </a:prstGeom>
              <a:ln cap="sq"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295800" y="4137120"/>
                <a:ext cx="0" cy="1952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089240" y="4137120"/>
                <a:ext cx="0" cy="1952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834080" y="4137120"/>
                <a:ext cx="0" cy="1952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667480" y="4137120"/>
                <a:ext cx="0" cy="1952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658280" y="4137120"/>
                <a:ext cx="0" cy="1952640"/>
              </a:xfrm>
              <a:prstGeom prst="line">
                <a:avLst/>
              </a:prstGeom>
              <a:ln cap="sq"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600960" y="4137120"/>
                <a:ext cx="0" cy="1952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503440" y="5514840"/>
                <a:ext cx="5154840" cy="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343640" y="4137120"/>
                <a:ext cx="0" cy="1952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503440" y="5840280"/>
                <a:ext cx="5154840" cy="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609480" y="928800"/>
              <a:ext cx="2027520" cy="633240"/>
            </a:xfrm>
            <a:custGeom>
              <a:avLst/>
              <a:gdLst/>
              <a:ahLst/>
              <a:rect l="l" t="t" r="r" b="b"/>
              <a:pathLst>
                <a:path w="1277" h="399">
                  <a:moveTo>
                    <a:pt x="1272" y="10"/>
                  </a:moveTo>
                  <a:lnTo>
                    <a:pt x="1193" y="10"/>
                  </a:lnTo>
                  <a:lnTo>
                    <a:pt x="1193" y="0"/>
                  </a:lnTo>
                  <a:lnTo>
                    <a:pt x="1272" y="0"/>
                  </a:lnTo>
                  <a:lnTo>
                    <a:pt x="1272" y="10"/>
                  </a:lnTo>
                  <a:close/>
                  <a:moveTo>
                    <a:pt x="1164" y="10"/>
                  </a:moveTo>
                  <a:lnTo>
                    <a:pt x="1084" y="10"/>
                  </a:lnTo>
                  <a:lnTo>
                    <a:pt x="1084" y="0"/>
                  </a:lnTo>
                  <a:lnTo>
                    <a:pt x="1164" y="0"/>
                  </a:lnTo>
                  <a:lnTo>
                    <a:pt x="1164" y="10"/>
                  </a:lnTo>
                  <a:close/>
                  <a:moveTo>
                    <a:pt x="1055" y="10"/>
                  </a:moveTo>
                  <a:lnTo>
                    <a:pt x="975" y="10"/>
                  </a:lnTo>
                  <a:lnTo>
                    <a:pt x="975" y="0"/>
                  </a:lnTo>
                  <a:lnTo>
                    <a:pt x="1055" y="0"/>
                  </a:lnTo>
                  <a:lnTo>
                    <a:pt x="1055" y="10"/>
                  </a:lnTo>
                  <a:close/>
                  <a:moveTo>
                    <a:pt x="946" y="10"/>
                  </a:moveTo>
                  <a:lnTo>
                    <a:pt x="867" y="10"/>
                  </a:lnTo>
                  <a:lnTo>
                    <a:pt x="867" y="0"/>
                  </a:lnTo>
                  <a:lnTo>
                    <a:pt x="946" y="0"/>
                  </a:lnTo>
                  <a:lnTo>
                    <a:pt x="946" y="10"/>
                  </a:lnTo>
                  <a:close/>
                  <a:moveTo>
                    <a:pt x="837" y="10"/>
                  </a:moveTo>
                  <a:lnTo>
                    <a:pt x="758" y="10"/>
                  </a:lnTo>
                  <a:lnTo>
                    <a:pt x="758" y="0"/>
                  </a:lnTo>
                  <a:lnTo>
                    <a:pt x="837" y="0"/>
                  </a:lnTo>
                  <a:lnTo>
                    <a:pt x="837" y="10"/>
                  </a:lnTo>
                  <a:close/>
                  <a:moveTo>
                    <a:pt x="728" y="10"/>
                  </a:moveTo>
                  <a:lnTo>
                    <a:pt x="649" y="10"/>
                  </a:lnTo>
                  <a:lnTo>
                    <a:pt x="649" y="0"/>
                  </a:lnTo>
                  <a:lnTo>
                    <a:pt x="728" y="0"/>
                  </a:lnTo>
                  <a:lnTo>
                    <a:pt x="728" y="10"/>
                  </a:lnTo>
                  <a:close/>
                  <a:moveTo>
                    <a:pt x="619" y="10"/>
                  </a:moveTo>
                  <a:lnTo>
                    <a:pt x="540" y="10"/>
                  </a:lnTo>
                  <a:lnTo>
                    <a:pt x="540" y="0"/>
                  </a:lnTo>
                  <a:lnTo>
                    <a:pt x="619" y="0"/>
                  </a:lnTo>
                  <a:lnTo>
                    <a:pt x="619" y="10"/>
                  </a:lnTo>
                  <a:close/>
                  <a:moveTo>
                    <a:pt x="510" y="10"/>
                  </a:moveTo>
                  <a:lnTo>
                    <a:pt x="431" y="10"/>
                  </a:lnTo>
                  <a:lnTo>
                    <a:pt x="431" y="0"/>
                  </a:lnTo>
                  <a:lnTo>
                    <a:pt x="510" y="0"/>
                  </a:lnTo>
                  <a:lnTo>
                    <a:pt x="510" y="10"/>
                  </a:lnTo>
                  <a:close/>
                  <a:moveTo>
                    <a:pt x="401" y="10"/>
                  </a:moveTo>
                  <a:lnTo>
                    <a:pt x="322" y="10"/>
                  </a:lnTo>
                  <a:lnTo>
                    <a:pt x="322" y="0"/>
                  </a:lnTo>
                  <a:lnTo>
                    <a:pt x="401" y="0"/>
                  </a:lnTo>
                  <a:lnTo>
                    <a:pt x="401" y="10"/>
                  </a:lnTo>
                  <a:close/>
                  <a:moveTo>
                    <a:pt x="292" y="10"/>
                  </a:moveTo>
                  <a:lnTo>
                    <a:pt x="213" y="10"/>
                  </a:lnTo>
                  <a:lnTo>
                    <a:pt x="213" y="0"/>
                  </a:lnTo>
                  <a:lnTo>
                    <a:pt x="292" y="0"/>
                  </a:lnTo>
                  <a:lnTo>
                    <a:pt x="292" y="10"/>
                  </a:lnTo>
                  <a:close/>
                  <a:moveTo>
                    <a:pt x="183" y="10"/>
                  </a:moveTo>
                  <a:lnTo>
                    <a:pt x="104" y="10"/>
                  </a:lnTo>
                  <a:lnTo>
                    <a:pt x="104" y="0"/>
                  </a:lnTo>
                  <a:lnTo>
                    <a:pt x="183" y="0"/>
                  </a:lnTo>
                  <a:lnTo>
                    <a:pt x="183" y="10"/>
                  </a:lnTo>
                  <a:close/>
                  <a:moveTo>
                    <a:pt x="75" y="10"/>
                  </a:moveTo>
                  <a:lnTo>
                    <a:pt x="5" y="10"/>
                  </a:lnTo>
                  <a:lnTo>
                    <a:pt x="10" y="5"/>
                  </a:lnTo>
                  <a:lnTo>
                    <a:pt x="10" y="15"/>
                  </a:lnTo>
                  <a:lnTo>
                    <a:pt x="0" y="15"/>
                  </a:lnTo>
                  <a:lnTo>
                    <a:pt x="0" y="0"/>
                  </a:lnTo>
                  <a:lnTo>
                    <a:pt x="75" y="0"/>
                  </a:lnTo>
                  <a:lnTo>
                    <a:pt x="75" y="10"/>
                  </a:lnTo>
                  <a:close/>
                  <a:moveTo>
                    <a:pt x="10" y="45"/>
                  </a:moveTo>
                  <a:lnTo>
                    <a:pt x="10" y="124"/>
                  </a:lnTo>
                  <a:lnTo>
                    <a:pt x="0" y="124"/>
                  </a:lnTo>
                  <a:lnTo>
                    <a:pt x="0" y="45"/>
                  </a:lnTo>
                  <a:lnTo>
                    <a:pt x="10" y="45"/>
                  </a:lnTo>
                  <a:close/>
                  <a:moveTo>
                    <a:pt x="10" y="154"/>
                  </a:moveTo>
                  <a:lnTo>
                    <a:pt x="10" y="233"/>
                  </a:lnTo>
                  <a:lnTo>
                    <a:pt x="0" y="233"/>
                  </a:lnTo>
                  <a:lnTo>
                    <a:pt x="0" y="154"/>
                  </a:lnTo>
                  <a:lnTo>
                    <a:pt x="10" y="154"/>
                  </a:lnTo>
                  <a:close/>
                  <a:moveTo>
                    <a:pt x="10" y="262"/>
                  </a:moveTo>
                  <a:lnTo>
                    <a:pt x="10" y="341"/>
                  </a:lnTo>
                  <a:lnTo>
                    <a:pt x="0" y="341"/>
                  </a:lnTo>
                  <a:lnTo>
                    <a:pt x="0" y="262"/>
                  </a:lnTo>
                  <a:lnTo>
                    <a:pt x="10" y="262"/>
                  </a:lnTo>
                  <a:close/>
                  <a:moveTo>
                    <a:pt x="10" y="371"/>
                  </a:moveTo>
                  <a:lnTo>
                    <a:pt x="10" y="394"/>
                  </a:lnTo>
                  <a:lnTo>
                    <a:pt x="5" y="389"/>
                  </a:lnTo>
                  <a:lnTo>
                    <a:pt x="61" y="389"/>
                  </a:lnTo>
                  <a:lnTo>
                    <a:pt x="61" y="399"/>
                  </a:lnTo>
                  <a:lnTo>
                    <a:pt x="0" y="399"/>
                  </a:lnTo>
                  <a:lnTo>
                    <a:pt x="0" y="371"/>
                  </a:lnTo>
                  <a:lnTo>
                    <a:pt x="10" y="371"/>
                  </a:lnTo>
                  <a:close/>
                  <a:moveTo>
                    <a:pt x="91" y="389"/>
                  </a:moveTo>
                  <a:lnTo>
                    <a:pt x="170" y="389"/>
                  </a:lnTo>
                  <a:lnTo>
                    <a:pt x="170" y="399"/>
                  </a:lnTo>
                  <a:lnTo>
                    <a:pt x="91" y="399"/>
                  </a:lnTo>
                  <a:lnTo>
                    <a:pt x="91" y="389"/>
                  </a:lnTo>
                  <a:close/>
                  <a:moveTo>
                    <a:pt x="200" y="389"/>
                  </a:moveTo>
                  <a:lnTo>
                    <a:pt x="279" y="389"/>
                  </a:lnTo>
                  <a:lnTo>
                    <a:pt x="279" y="399"/>
                  </a:lnTo>
                  <a:lnTo>
                    <a:pt x="200" y="399"/>
                  </a:lnTo>
                  <a:lnTo>
                    <a:pt x="200" y="389"/>
                  </a:lnTo>
                  <a:close/>
                  <a:moveTo>
                    <a:pt x="309" y="389"/>
                  </a:moveTo>
                  <a:lnTo>
                    <a:pt x="388" y="389"/>
                  </a:lnTo>
                  <a:lnTo>
                    <a:pt x="388" y="399"/>
                  </a:lnTo>
                  <a:lnTo>
                    <a:pt x="309" y="399"/>
                  </a:lnTo>
                  <a:lnTo>
                    <a:pt x="309" y="389"/>
                  </a:lnTo>
                  <a:close/>
                  <a:moveTo>
                    <a:pt x="418" y="389"/>
                  </a:moveTo>
                  <a:lnTo>
                    <a:pt x="497" y="389"/>
                  </a:lnTo>
                  <a:lnTo>
                    <a:pt x="497" y="399"/>
                  </a:lnTo>
                  <a:lnTo>
                    <a:pt x="418" y="399"/>
                  </a:lnTo>
                  <a:lnTo>
                    <a:pt x="418" y="389"/>
                  </a:lnTo>
                  <a:close/>
                  <a:moveTo>
                    <a:pt x="527" y="389"/>
                  </a:moveTo>
                  <a:lnTo>
                    <a:pt x="606" y="389"/>
                  </a:lnTo>
                  <a:lnTo>
                    <a:pt x="606" y="399"/>
                  </a:lnTo>
                  <a:lnTo>
                    <a:pt x="527" y="399"/>
                  </a:lnTo>
                  <a:lnTo>
                    <a:pt x="527" y="389"/>
                  </a:lnTo>
                  <a:close/>
                  <a:moveTo>
                    <a:pt x="636" y="389"/>
                  </a:moveTo>
                  <a:lnTo>
                    <a:pt x="715" y="389"/>
                  </a:lnTo>
                  <a:lnTo>
                    <a:pt x="715" y="399"/>
                  </a:lnTo>
                  <a:lnTo>
                    <a:pt x="636" y="399"/>
                  </a:lnTo>
                  <a:lnTo>
                    <a:pt x="636" y="389"/>
                  </a:lnTo>
                  <a:close/>
                  <a:moveTo>
                    <a:pt x="744" y="389"/>
                  </a:moveTo>
                  <a:lnTo>
                    <a:pt x="824" y="389"/>
                  </a:lnTo>
                  <a:lnTo>
                    <a:pt x="824" y="399"/>
                  </a:lnTo>
                  <a:lnTo>
                    <a:pt x="744" y="399"/>
                  </a:lnTo>
                  <a:lnTo>
                    <a:pt x="744" y="389"/>
                  </a:lnTo>
                  <a:close/>
                  <a:moveTo>
                    <a:pt x="853" y="389"/>
                  </a:moveTo>
                  <a:lnTo>
                    <a:pt x="933" y="389"/>
                  </a:lnTo>
                  <a:lnTo>
                    <a:pt x="933" y="399"/>
                  </a:lnTo>
                  <a:lnTo>
                    <a:pt x="853" y="399"/>
                  </a:lnTo>
                  <a:lnTo>
                    <a:pt x="853" y="389"/>
                  </a:lnTo>
                  <a:close/>
                  <a:moveTo>
                    <a:pt x="962" y="389"/>
                  </a:moveTo>
                  <a:lnTo>
                    <a:pt x="1041" y="389"/>
                  </a:lnTo>
                  <a:lnTo>
                    <a:pt x="1041" y="399"/>
                  </a:lnTo>
                  <a:lnTo>
                    <a:pt x="962" y="399"/>
                  </a:lnTo>
                  <a:lnTo>
                    <a:pt x="962" y="389"/>
                  </a:lnTo>
                  <a:close/>
                  <a:moveTo>
                    <a:pt x="1071" y="389"/>
                  </a:moveTo>
                  <a:lnTo>
                    <a:pt x="1150" y="389"/>
                  </a:lnTo>
                  <a:lnTo>
                    <a:pt x="1150" y="399"/>
                  </a:lnTo>
                  <a:lnTo>
                    <a:pt x="1071" y="399"/>
                  </a:lnTo>
                  <a:lnTo>
                    <a:pt x="1071" y="389"/>
                  </a:lnTo>
                  <a:close/>
                  <a:moveTo>
                    <a:pt x="1180" y="389"/>
                  </a:moveTo>
                  <a:lnTo>
                    <a:pt x="1259" y="389"/>
                  </a:lnTo>
                  <a:lnTo>
                    <a:pt x="1259" y="399"/>
                  </a:lnTo>
                  <a:lnTo>
                    <a:pt x="1180" y="399"/>
                  </a:lnTo>
                  <a:lnTo>
                    <a:pt x="1180" y="389"/>
                  </a:lnTo>
                  <a:close/>
                  <a:moveTo>
                    <a:pt x="1267" y="378"/>
                  </a:moveTo>
                  <a:lnTo>
                    <a:pt x="1267" y="298"/>
                  </a:lnTo>
                  <a:lnTo>
                    <a:pt x="1277" y="298"/>
                  </a:lnTo>
                  <a:lnTo>
                    <a:pt x="1277" y="378"/>
                  </a:lnTo>
                  <a:lnTo>
                    <a:pt x="1267" y="378"/>
                  </a:lnTo>
                  <a:close/>
                  <a:moveTo>
                    <a:pt x="1267" y="269"/>
                  </a:moveTo>
                  <a:lnTo>
                    <a:pt x="1267" y="190"/>
                  </a:lnTo>
                  <a:lnTo>
                    <a:pt x="1277" y="190"/>
                  </a:lnTo>
                  <a:lnTo>
                    <a:pt x="1277" y="269"/>
                  </a:lnTo>
                  <a:lnTo>
                    <a:pt x="1267" y="269"/>
                  </a:lnTo>
                  <a:close/>
                  <a:moveTo>
                    <a:pt x="1267" y="160"/>
                  </a:moveTo>
                  <a:lnTo>
                    <a:pt x="1267" y="81"/>
                  </a:lnTo>
                  <a:lnTo>
                    <a:pt x="1277" y="81"/>
                  </a:lnTo>
                  <a:lnTo>
                    <a:pt x="1277" y="160"/>
                  </a:lnTo>
                  <a:lnTo>
                    <a:pt x="1267" y="160"/>
                  </a:lnTo>
                  <a:close/>
                  <a:moveTo>
                    <a:pt x="1267" y="51"/>
                  </a:moveTo>
                  <a:lnTo>
                    <a:pt x="1267" y="5"/>
                  </a:lnTo>
                  <a:lnTo>
                    <a:pt x="1277" y="5"/>
                  </a:lnTo>
                  <a:lnTo>
                    <a:pt x="1277" y="51"/>
                  </a:lnTo>
                  <a:lnTo>
                    <a:pt x="1267" y="5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96240" y="993600"/>
              <a:ext cx="153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earch Coordinato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95880" y="1170000"/>
              <a:ext cx="182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lects protocol for pati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98760" y="1344600"/>
              <a:ext cx="74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creening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624040" y="1407960"/>
              <a:ext cx="1200240" cy="61920"/>
            </a:xfrm>
            <a:custGeom>
              <a:avLst/>
              <a:gdLst/>
              <a:ahLst/>
              <a:rect l="l" t="t" r="r" b="b"/>
              <a:pathLst>
                <a:path w="7633" h="400">
                  <a:moveTo>
                    <a:pt x="33" y="167"/>
                  </a:moveTo>
                  <a:lnTo>
                    <a:pt x="500" y="167"/>
                  </a:lnTo>
                  <a:cubicBezTo>
                    <a:pt x="519" y="167"/>
                    <a:pt x="533" y="182"/>
                    <a:pt x="533" y="200"/>
                  </a:cubicBezTo>
                  <a:cubicBezTo>
                    <a:pt x="533" y="219"/>
                    <a:pt x="519" y="234"/>
                    <a:pt x="500" y="234"/>
                  </a:cubicBezTo>
                  <a:lnTo>
                    <a:pt x="33" y="234"/>
                  </a:lnTo>
                  <a:cubicBezTo>
                    <a:pt x="15" y="234"/>
                    <a:pt x="0" y="219"/>
                    <a:pt x="0" y="200"/>
                  </a:cubicBezTo>
                  <a:cubicBezTo>
                    <a:pt x="0" y="182"/>
                    <a:pt x="15" y="167"/>
                    <a:pt x="33" y="167"/>
                  </a:cubicBezTo>
                  <a:close/>
                  <a:moveTo>
                    <a:pt x="767" y="167"/>
                  </a:moveTo>
                  <a:lnTo>
                    <a:pt x="1233" y="167"/>
                  </a:lnTo>
                  <a:cubicBezTo>
                    <a:pt x="1252" y="167"/>
                    <a:pt x="1267" y="182"/>
                    <a:pt x="1267" y="200"/>
                  </a:cubicBezTo>
                  <a:cubicBezTo>
                    <a:pt x="1267" y="219"/>
                    <a:pt x="1252" y="234"/>
                    <a:pt x="1233" y="234"/>
                  </a:cubicBezTo>
                  <a:lnTo>
                    <a:pt x="767" y="234"/>
                  </a:lnTo>
                  <a:cubicBezTo>
                    <a:pt x="748" y="234"/>
                    <a:pt x="733" y="219"/>
                    <a:pt x="733" y="200"/>
                  </a:cubicBezTo>
                  <a:cubicBezTo>
                    <a:pt x="733" y="182"/>
                    <a:pt x="748" y="167"/>
                    <a:pt x="767" y="167"/>
                  </a:cubicBezTo>
                  <a:close/>
                  <a:moveTo>
                    <a:pt x="1500" y="167"/>
                  </a:moveTo>
                  <a:lnTo>
                    <a:pt x="1967" y="167"/>
                  </a:lnTo>
                  <a:cubicBezTo>
                    <a:pt x="1985" y="167"/>
                    <a:pt x="2000" y="182"/>
                    <a:pt x="2000" y="200"/>
                  </a:cubicBezTo>
                  <a:cubicBezTo>
                    <a:pt x="2000" y="219"/>
                    <a:pt x="1985" y="234"/>
                    <a:pt x="1967" y="234"/>
                  </a:cubicBezTo>
                  <a:lnTo>
                    <a:pt x="1500" y="234"/>
                  </a:lnTo>
                  <a:cubicBezTo>
                    <a:pt x="1482" y="234"/>
                    <a:pt x="1467" y="219"/>
                    <a:pt x="1467" y="200"/>
                  </a:cubicBezTo>
                  <a:cubicBezTo>
                    <a:pt x="1467" y="182"/>
                    <a:pt x="1482" y="167"/>
                    <a:pt x="1500" y="167"/>
                  </a:cubicBezTo>
                  <a:close/>
                  <a:moveTo>
                    <a:pt x="2233" y="167"/>
                  </a:moveTo>
                  <a:lnTo>
                    <a:pt x="2700" y="167"/>
                  </a:lnTo>
                  <a:cubicBezTo>
                    <a:pt x="2719" y="167"/>
                    <a:pt x="2733" y="182"/>
                    <a:pt x="2733" y="200"/>
                  </a:cubicBezTo>
                  <a:cubicBezTo>
                    <a:pt x="2733" y="219"/>
                    <a:pt x="2719" y="234"/>
                    <a:pt x="2700" y="234"/>
                  </a:cubicBezTo>
                  <a:lnTo>
                    <a:pt x="2233" y="234"/>
                  </a:lnTo>
                  <a:cubicBezTo>
                    <a:pt x="2215" y="234"/>
                    <a:pt x="2200" y="219"/>
                    <a:pt x="2200" y="200"/>
                  </a:cubicBezTo>
                  <a:cubicBezTo>
                    <a:pt x="2200" y="182"/>
                    <a:pt x="2215" y="167"/>
                    <a:pt x="2233" y="167"/>
                  </a:cubicBezTo>
                  <a:close/>
                  <a:moveTo>
                    <a:pt x="2967" y="167"/>
                  </a:moveTo>
                  <a:lnTo>
                    <a:pt x="3433" y="167"/>
                  </a:lnTo>
                  <a:cubicBezTo>
                    <a:pt x="3452" y="167"/>
                    <a:pt x="3467" y="182"/>
                    <a:pt x="3467" y="200"/>
                  </a:cubicBezTo>
                  <a:cubicBezTo>
                    <a:pt x="3467" y="219"/>
                    <a:pt x="3452" y="234"/>
                    <a:pt x="3433" y="234"/>
                  </a:cubicBezTo>
                  <a:lnTo>
                    <a:pt x="2967" y="234"/>
                  </a:lnTo>
                  <a:cubicBezTo>
                    <a:pt x="2948" y="234"/>
                    <a:pt x="2933" y="219"/>
                    <a:pt x="2933" y="200"/>
                  </a:cubicBezTo>
                  <a:cubicBezTo>
                    <a:pt x="2933" y="182"/>
                    <a:pt x="2948" y="167"/>
                    <a:pt x="2967" y="167"/>
                  </a:cubicBezTo>
                  <a:close/>
                  <a:moveTo>
                    <a:pt x="3700" y="167"/>
                  </a:moveTo>
                  <a:lnTo>
                    <a:pt x="4167" y="167"/>
                  </a:lnTo>
                  <a:cubicBezTo>
                    <a:pt x="4185" y="167"/>
                    <a:pt x="4200" y="182"/>
                    <a:pt x="4200" y="200"/>
                  </a:cubicBezTo>
                  <a:cubicBezTo>
                    <a:pt x="4200" y="219"/>
                    <a:pt x="4185" y="234"/>
                    <a:pt x="4167" y="234"/>
                  </a:cubicBezTo>
                  <a:lnTo>
                    <a:pt x="3700" y="234"/>
                  </a:lnTo>
                  <a:cubicBezTo>
                    <a:pt x="3682" y="234"/>
                    <a:pt x="3667" y="219"/>
                    <a:pt x="3667" y="200"/>
                  </a:cubicBezTo>
                  <a:cubicBezTo>
                    <a:pt x="3667" y="182"/>
                    <a:pt x="3682" y="167"/>
                    <a:pt x="3700" y="167"/>
                  </a:cubicBezTo>
                  <a:close/>
                  <a:moveTo>
                    <a:pt x="4433" y="167"/>
                  </a:moveTo>
                  <a:lnTo>
                    <a:pt x="4900" y="167"/>
                  </a:lnTo>
                  <a:cubicBezTo>
                    <a:pt x="4919" y="167"/>
                    <a:pt x="4933" y="182"/>
                    <a:pt x="4933" y="200"/>
                  </a:cubicBezTo>
                  <a:cubicBezTo>
                    <a:pt x="4933" y="219"/>
                    <a:pt x="4919" y="234"/>
                    <a:pt x="4900" y="234"/>
                  </a:cubicBezTo>
                  <a:lnTo>
                    <a:pt x="4433" y="234"/>
                  </a:lnTo>
                  <a:cubicBezTo>
                    <a:pt x="4415" y="234"/>
                    <a:pt x="4400" y="219"/>
                    <a:pt x="4400" y="200"/>
                  </a:cubicBezTo>
                  <a:cubicBezTo>
                    <a:pt x="4400" y="182"/>
                    <a:pt x="4415" y="167"/>
                    <a:pt x="4433" y="167"/>
                  </a:cubicBezTo>
                  <a:close/>
                  <a:moveTo>
                    <a:pt x="5167" y="167"/>
                  </a:moveTo>
                  <a:lnTo>
                    <a:pt x="5633" y="167"/>
                  </a:lnTo>
                  <a:cubicBezTo>
                    <a:pt x="5652" y="167"/>
                    <a:pt x="5667" y="182"/>
                    <a:pt x="5667" y="200"/>
                  </a:cubicBezTo>
                  <a:cubicBezTo>
                    <a:pt x="5667" y="219"/>
                    <a:pt x="5652" y="234"/>
                    <a:pt x="5633" y="234"/>
                  </a:cubicBezTo>
                  <a:lnTo>
                    <a:pt x="5167" y="234"/>
                  </a:lnTo>
                  <a:cubicBezTo>
                    <a:pt x="5148" y="234"/>
                    <a:pt x="5133" y="219"/>
                    <a:pt x="5133" y="200"/>
                  </a:cubicBezTo>
                  <a:cubicBezTo>
                    <a:pt x="5133" y="182"/>
                    <a:pt x="5148" y="167"/>
                    <a:pt x="5167" y="167"/>
                  </a:cubicBezTo>
                  <a:close/>
                  <a:moveTo>
                    <a:pt x="5900" y="167"/>
                  </a:moveTo>
                  <a:lnTo>
                    <a:pt x="6367" y="167"/>
                  </a:lnTo>
                  <a:cubicBezTo>
                    <a:pt x="6385" y="167"/>
                    <a:pt x="6400" y="182"/>
                    <a:pt x="6400" y="200"/>
                  </a:cubicBezTo>
                  <a:cubicBezTo>
                    <a:pt x="6400" y="219"/>
                    <a:pt x="6385" y="234"/>
                    <a:pt x="6367" y="234"/>
                  </a:cubicBezTo>
                  <a:lnTo>
                    <a:pt x="5900" y="234"/>
                  </a:lnTo>
                  <a:cubicBezTo>
                    <a:pt x="5882" y="234"/>
                    <a:pt x="5867" y="219"/>
                    <a:pt x="5867" y="200"/>
                  </a:cubicBezTo>
                  <a:cubicBezTo>
                    <a:pt x="5867" y="182"/>
                    <a:pt x="5882" y="167"/>
                    <a:pt x="5900" y="167"/>
                  </a:cubicBezTo>
                  <a:close/>
                  <a:moveTo>
                    <a:pt x="6633" y="167"/>
                  </a:moveTo>
                  <a:lnTo>
                    <a:pt x="7100" y="167"/>
                  </a:lnTo>
                  <a:cubicBezTo>
                    <a:pt x="7119" y="167"/>
                    <a:pt x="7133" y="182"/>
                    <a:pt x="7133" y="200"/>
                  </a:cubicBezTo>
                  <a:cubicBezTo>
                    <a:pt x="7133" y="219"/>
                    <a:pt x="7119" y="234"/>
                    <a:pt x="7100" y="234"/>
                  </a:cubicBezTo>
                  <a:lnTo>
                    <a:pt x="6633" y="234"/>
                  </a:lnTo>
                  <a:cubicBezTo>
                    <a:pt x="6615" y="234"/>
                    <a:pt x="6600" y="219"/>
                    <a:pt x="6600" y="200"/>
                  </a:cubicBezTo>
                  <a:cubicBezTo>
                    <a:pt x="6600" y="182"/>
                    <a:pt x="6615" y="167"/>
                    <a:pt x="6633" y="167"/>
                  </a:cubicBezTo>
                  <a:close/>
                  <a:moveTo>
                    <a:pt x="7233" y="0"/>
                  </a:moveTo>
                  <a:lnTo>
                    <a:pt x="7633" y="200"/>
                  </a:lnTo>
                  <a:lnTo>
                    <a:pt x="7233" y="400"/>
                  </a:lnTo>
                  <a:lnTo>
                    <a:pt x="7233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73200" y="3062160"/>
              <a:ext cx="1334880" cy="1684440"/>
            </a:xfrm>
            <a:custGeom>
              <a:avLst/>
              <a:gdLst/>
              <a:ahLst/>
              <a:rect l="l" t="t" r="r" b="b"/>
              <a:pathLst>
                <a:path w="841" h="1061">
                  <a:moveTo>
                    <a:pt x="836" y="10"/>
                  </a:moveTo>
                  <a:lnTo>
                    <a:pt x="757" y="10"/>
                  </a:lnTo>
                  <a:lnTo>
                    <a:pt x="757" y="0"/>
                  </a:lnTo>
                  <a:lnTo>
                    <a:pt x="836" y="0"/>
                  </a:lnTo>
                  <a:lnTo>
                    <a:pt x="836" y="10"/>
                  </a:lnTo>
                  <a:close/>
                  <a:moveTo>
                    <a:pt x="728" y="10"/>
                  </a:moveTo>
                  <a:lnTo>
                    <a:pt x="648" y="10"/>
                  </a:lnTo>
                  <a:lnTo>
                    <a:pt x="648" y="0"/>
                  </a:lnTo>
                  <a:lnTo>
                    <a:pt x="728" y="0"/>
                  </a:lnTo>
                  <a:lnTo>
                    <a:pt x="728" y="10"/>
                  </a:lnTo>
                  <a:close/>
                  <a:moveTo>
                    <a:pt x="619" y="10"/>
                  </a:moveTo>
                  <a:lnTo>
                    <a:pt x="539" y="10"/>
                  </a:lnTo>
                  <a:lnTo>
                    <a:pt x="539" y="0"/>
                  </a:lnTo>
                  <a:lnTo>
                    <a:pt x="619" y="0"/>
                  </a:lnTo>
                  <a:lnTo>
                    <a:pt x="619" y="10"/>
                  </a:lnTo>
                  <a:close/>
                  <a:moveTo>
                    <a:pt x="510" y="10"/>
                  </a:moveTo>
                  <a:lnTo>
                    <a:pt x="431" y="10"/>
                  </a:lnTo>
                  <a:lnTo>
                    <a:pt x="431" y="0"/>
                  </a:lnTo>
                  <a:lnTo>
                    <a:pt x="510" y="0"/>
                  </a:lnTo>
                  <a:lnTo>
                    <a:pt x="510" y="10"/>
                  </a:lnTo>
                  <a:close/>
                  <a:moveTo>
                    <a:pt x="401" y="10"/>
                  </a:moveTo>
                  <a:lnTo>
                    <a:pt x="322" y="10"/>
                  </a:lnTo>
                  <a:lnTo>
                    <a:pt x="322" y="0"/>
                  </a:lnTo>
                  <a:lnTo>
                    <a:pt x="401" y="0"/>
                  </a:lnTo>
                  <a:lnTo>
                    <a:pt x="401" y="10"/>
                  </a:lnTo>
                  <a:close/>
                  <a:moveTo>
                    <a:pt x="292" y="10"/>
                  </a:moveTo>
                  <a:lnTo>
                    <a:pt x="213" y="10"/>
                  </a:lnTo>
                  <a:lnTo>
                    <a:pt x="213" y="0"/>
                  </a:lnTo>
                  <a:lnTo>
                    <a:pt x="292" y="0"/>
                  </a:lnTo>
                  <a:lnTo>
                    <a:pt x="292" y="10"/>
                  </a:lnTo>
                  <a:close/>
                  <a:moveTo>
                    <a:pt x="183" y="10"/>
                  </a:moveTo>
                  <a:lnTo>
                    <a:pt x="104" y="10"/>
                  </a:lnTo>
                  <a:lnTo>
                    <a:pt x="104" y="0"/>
                  </a:lnTo>
                  <a:lnTo>
                    <a:pt x="183" y="0"/>
                  </a:lnTo>
                  <a:lnTo>
                    <a:pt x="183" y="10"/>
                  </a:lnTo>
                  <a:close/>
                  <a:moveTo>
                    <a:pt x="74" y="10"/>
                  </a:moveTo>
                  <a:lnTo>
                    <a:pt x="5" y="10"/>
                  </a:lnTo>
                  <a:lnTo>
                    <a:pt x="10" y="5"/>
                  </a:lnTo>
                  <a:lnTo>
                    <a:pt x="10" y="15"/>
                  </a:lnTo>
                  <a:lnTo>
                    <a:pt x="0" y="15"/>
                  </a:lnTo>
                  <a:lnTo>
                    <a:pt x="0" y="0"/>
                  </a:lnTo>
                  <a:lnTo>
                    <a:pt x="74" y="0"/>
                  </a:lnTo>
                  <a:lnTo>
                    <a:pt x="74" y="10"/>
                  </a:lnTo>
                  <a:close/>
                  <a:moveTo>
                    <a:pt x="10" y="45"/>
                  </a:moveTo>
                  <a:lnTo>
                    <a:pt x="10" y="124"/>
                  </a:lnTo>
                  <a:lnTo>
                    <a:pt x="0" y="124"/>
                  </a:lnTo>
                  <a:lnTo>
                    <a:pt x="0" y="45"/>
                  </a:lnTo>
                  <a:lnTo>
                    <a:pt x="10" y="45"/>
                  </a:lnTo>
                  <a:close/>
                  <a:moveTo>
                    <a:pt x="10" y="153"/>
                  </a:moveTo>
                  <a:lnTo>
                    <a:pt x="10" y="232"/>
                  </a:lnTo>
                  <a:lnTo>
                    <a:pt x="0" y="232"/>
                  </a:lnTo>
                  <a:lnTo>
                    <a:pt x="0" y="153"/>
                  </a:lnTo>
                  <a:lnTo>
                    <a:pt x="10" y="153"/>
                  </a:lnTo>
                  <a:close/>
                  <a:moveTo>
                    <a:pt x="10" y="262"/>
                  </a:moveTo>
                  <a:lnTo>
                    <a:pt x="10" y="341"/>
                  </a:lnTo>
                  <a:lnTo>
                    <a:pt x="0" y="341"/>
                  </a:lnTo>
                  <a:lnTo>
                    <a:pt x="0" y="262"/>
                  </a:lnTo>
                  <a:lnTo>
                    <a:pt x="10" y="262"/>
                  </a:lnTo>
                  <a:close/>
                  <a:moveTo>
                    <a:pt x="10" y="371"/>
                  </a:moveTo>
                  <a:lnTo>
                    <a:pt x="10" y="450"/>
                  </a:lnTo>
                  <a:lnTo>
                    <a:pt x="0" y="450"/>
                  </a:lnTo>
                  <a:lnTo>
                    <a:pt x="0" y="371"/>
                  </a:lnTo>
                  <a:lnTo>
                    <a:pt x="10" y="371"/>
                  </a:lnTo>
                  <a:close/>
                  <a:moveTo>
                    <a:pt x="10" y="479"/>
                  </a:moveTo>
                  <a:lnTo>
                    <a:pt x="10" y="558"/>
                  </a:lnTo>
                  <a:lnTo>
                    <a:pt x="0" y="558"/>
                  </a:lnTo>
                  <a:lnTo>
                    <a:pt x="0" y="479"/>
                  </a:lnTo>
                  <a:lnTo>
                    <a:pt x="10" y="479"/>
                  </a:lnTo>
                  <a:close/>
                  <a:moveTo>
                    <a:pt x="10" y="588"/>
                  </a:moveTo>
                  <a:lnTo>
                    <a:pt x="10" y="667"/>
                  </a:lnTo>
                  <a:lnTo>
                    <a:pt x="0" y="667"/>
                  </a:lnTo>
                  <a:lnTo>
                    <a:pt x="0" y="588"/>
                  </a:lnTo>
                  <a:lnTo>
                    <a:pt x="10" y="588"/>
                  </a:lnTo>
                  <a:close/>
                  <a:moveTo>
                    <a:pt x="10" y="697"/>
                  </a:moveTo>
                  <a:lnTo>
                    <a:pt x="10" y="776"/>
                  </a:lnTo>
                  <a:lnTo>
                    <a:pt x="0" y="776"/>
                  </a:lnTo>
                  <a:lnTo>
                    <a:pt x="0" y="697"/>
                  </a:lnTo>
                  <a:lnTo>
                    <a:pt x="10" y="697"/>
                  </a:lnTo>
                  <a:close/>
                  <a:moveTo>
                    <a:pt x="10" y="805"/>
                  </a:moveTo>
                  <a:lnTo>
                    <a:pt x="10" y="885"/>
                  </a:lnTo>
                  <a:lnTo>
                    <a:pt x="0" y="885"/>
                  </a:lnTo>
                  <a:lnTo>
                    <a:pt x="0" y="805"/>
                  </a:lnTo>
                  <a:lnTo>
                    <a:pt x="10" y="805"/>
                  </a:lnTo>
                  <a:close/>
                  <a:moveTo>
                    <a:pt x="10" y="914"/>
                  </a:moveTo>
                  <a:lnTo>
                    <a:pt x="10" y="993"/>
                  </a:lnTo>
                  <a:lnTo>
                    <a:pt x="0" y="993"/>
                  </a:lnTo>
                  <a:lnTo>
                    <a:pt x="0" y="914"/>
                  </a:lnTo>
                  <a:lnTo>
                    <a:pt x="10" y="914"/>
                  </a:lnTo>
                  <a:close/>
                  <a:moveTo>
                    <a:pt x="10" y="1023"/>
                  </a:moveTo>
                  <a:lnTo>
                    <a:pt x="10" y="1056"/>
                  </a:lnTo>
                  <a:lnTo>
                    <a:pt x="5" y="1051"/>
                  </a:lnTo>
                  <a:lnTo>
                    <a:pt x="51" y="1051"/>
                  </a:lnTo>
                  <a:lnTo>
                    <a:pt x="51" y="1061"/>
                  </a:lnTo>
                  <a:lnTo>
                    <a:pt x="0" y="1061"/>
                  </a:lnTo>
                  <a:lnTo>
                    <a:pt x="0" y="1023"/>
                  </a:lnTo>
                  <a:lnTo>
                    <a:pt x="10" y="1023"/>
                  </a:lnTo>
                  <a:close/>
                  <a:moveTo>
                    <a:pt x="81" y="1051"/>
                  </a:moveTo>
                  <a:lnTo>
                    <a:pt x="160" y="1051"/>
                  </a:lnTo>
                  <a:lnTo>
                    <a:pt x="160" y="1061"/>
                  </a:lnTo>
                  <a:lnTo>
                    <a:pt x="81" y="1061"/>
                  </a:lnTo>
                  <a:lnTo>
                    <a:pt x="81" y="1051"/>
                  </a:lnTo>
                  <a:close/>
                  <a:moveTo>
                    <a:pt x="190" y="1051"/>
                  </a:moveTo>
                  <a:lnTo>
                    <a:pt x="269" y="1051"/>
                  </a:lnTo>
                  <a:lnTo>
                    <a:pt x="269" y="1061"/>
                  </a:lnTo>
                  <a:lnTo>
                    <a:pt x="190" y="1061"/>
                  </a:lnTo>
                  <a:lnTo>
                    <a:pt x="190" y="1051"/>
                  </a:lnTo>
                  <a:close/>
                  <a:moveTo>
                    <a:pt x="299" y="1051"/>
                  </a:moveTo>
                  <a:lnTo>
                    <a:pt x="378" y="1051"/>
                  </a:lnTo>
                  <a:lnTo>
                    <a:pt x="378" y="1061"/>
                  </a:lnTo>
                  <a:lnTo>
                    <a:pt x="299" y="1061"/>
                  </a:lnTo>
                  <a:lnTo>
                    <a:pt x="299" y="1051"/>
                  </a:lnTo>
                  <a:close/>
                  <a:moveTo>
                    <a:pt x="407" y="1051"/>
                  </a:moveTo>
                  <a:lnTo>
                    <a:pt x="487" y="1051"/>
                  </a:lnTo>
                  <a:lnTo>
                    <a:pt x="487" y="1061"/>
                  </a:lnTo>
                  <a:lnTo>
                    <a:pt x="407" y="1061"/>
                  </a:lnTo>
                  <a:lnTo>
                    <a:pt x="407" y="1051"/>
                  </a:lnTo>
                  <a:close/>
                  <a:moveTo>
                    <a:pt x="516" y="1051"/>
                  </a:moveTo>
                  <a:lnTo>
                    <a:pt x="596" y="1051"/>
                  </a:lnTo>
                  <a:lnTo>
                    <a:pt x="596" y="1061"/>
                  </a:lnTo>
                  <a:lnTo>
                    <a:pt x="516" y="1061"/>
                  </a:lnTo>
                  <a:lnTo>
                    <a:pt x="516" y="1051"/>
                  </a:lnTo>
                  <a:close/>
                  <a:moveTo>
                    <a:pt x="625" y="1051"/>
                  </a:moveTo>
                  <a:lnTo>
                    <a:pt x="704" y="1051"/>
                  </a:lnTo>
                  <a:lnTo>
                    <a:pt x="704" y="1061"/>
                  </a:lnTo>
                  <a:lnTo>
                    <a:pt x="625" y="1061"/>
                  </a:lnTo>
                  <a:lnTo>
                    <a:pt x="625" y="1051"/>
                  </a:lnTo>
                  <a:close/>
                  <a:moveTo>
                    <a:pt x="734" y="1051"/>
                  </a:moveTo>
                  <a:lnTo>
                    <a:pt x="813" y="1051"/>
                  </a:lnTo>
                  <a:lnTo>
                    <a:pt x="813" y="1061"/>
                  </a:lnTo>
                  <a:lnTo>
                    <a:pt x="734" y="1061"/>
                  </a:lnTo>
                  <a:lnTo>
                    <a:pt x="734" y="1051"/>
                  </a:lnTo>
                  <a:close/>
                  <a:moveTo>
                    <a:pt x="831" y="1049"/>
                  </a:moveTo>
                  <a:lnTo>
                    <a:pt x="831" y="970"/>
                  </a:lnTo>
                  <a:lnTo>
                    <a:pt x="841" y="970"/>
                  </a:lnTo>
                  <a:lnTo>
                    <a:pt x="841" y="1049"/>
                  </a:lnTo>
                  <a:lnTo>
                    <a:pt x="831" y="1049"/>
                  </a:lnTo>
                  <a:close/>
                  <a:moveTo>
                    <a:pt x="831" y="941"/>
                  </a:moveTo>
                  <a:lnTo>
                    <a:pt x="831" y="862"/>
                  </a:lnTo>
                  <a:lnTo>
                    <a:pt x="841" y="862"/>
                  </a:lnTo>
                  <a:lnTo>
                    <a:pt x="841" y="941"/>
                  </a:lnTo>
                  <a:lnTo>
                    <a:pt x="831" y="941"/>
                  </a:lnTo>
                  <a:close/>
                  <a:moveTo>
                    <a:pt x="831" y="832"/>
                  </a:moveTo>
                  <a:lnTo>
                    <a:pt x="831" y="753"/>
                  </a:lnTo>
                  <a:lnTo>
                    <a:pt x="841" y="753"/>
                  </a:lnTo>
                  <a:lnTo>
                    <a:pt x="841" y="832"/>
                  </a:lnTo>
                  <a:lnTo>
                    <a:pt x="831" y="832"/>
                  </a:lnTo>
                  <a:close/>
                  <a:moveTo>
                    <a:pt x="831" y="723"/>
                  </a:moveTo>
                  <a:lnTo>
                    <a:pt x="831" y="644"/>
                  </a:lnTo>
                  <a:lnTo>
                    <a:pt x="841" y="644"/>
                  </a:lnTo>
                  <a:lnTo>
                    <a:pt x="841" y="723"/>
                  </a:lnTo>
                  <a:lnTo>
                    <a:pt x="831" y="723"/>
                  </a:lnTo>
                  <a:close/>
                  <a:moveTo>
                    <a:pt x="831" y="614"/>
                  </a:moveTo>
                  <a:lnTo>
                    <a:pt x="831" y="535"/>
                  </a:lnTo>
                  <a:lnTo>
                    <a:pt x="841" y="535"/>
                  </a:lnTo>
                  <a:lnTo>
                    <a:pt x="841" y="614"/>
                  </a:lnTo>
                  <a:lnTo>
                    <a:pt x="831" y="614"/>
                  </a:lnTo>
                  <a:close/>
                  <a:moveTo>
                    <a:pt x="831" y="506"/>
                  </a:moveTo>
                  <a:lnTo>
                    <a:pt x="831" y="427"/>
                  </a:lnTo>
                  <a:lnTo>
                    <a:pt x="841" y="427"/>
                  </a:lnTo>
                  <a:lnTo>
                    <a:pt x="841" y="506"/>
                  </a:lnTo>
                  <a:lnTo>
                    <a:pt x="831" y="506"/>
                  </a:lnTo>
                  <a:close/>
                  <a:moveTo>
                    <a:pt x="831" y="397"/>
                  </a:moveTo>
                  <a:lnTo>
                    <a:pt x="831" y="318"/>
                  </a:lnTo>
                  <a:lnTo>
                    <a:pt x="841" y="318"/>
                  </a:lnTo>
                  <a:lnTo>
                    <a:pt x="841" y="397"/>
                  </a:lnTo>
                  <a:lnTo>
                    <a:pt x="831" y="397"/>
                  </a:lnTo>
                  <a:close/>
                  <a:moveTo>
                    <a:pt x="831" y="288"/>
                  </a:moveTo>
                  <a:lnTo>
                    <a:pt x="831" y="209"/>
                  </a:lnTo>
                  <a:lnTo>
                    <a:pt x="841" y="209"/>
                  </a:lnTo>
                  <a:lnTo>
                    <a:pt x="841" y="288"/>
                  </a:lnTo>
                  <a:lnTo>
                    <a:pt x="831" y="288"/>
                  </a:lnTo>
                  <a:close/>
                  <a:moveTo>
                    <a:pt x="831" y="180"/>
                  </a:moveTo>
                  <a:lnTo>
                    <a:pt x="831" y="101"/>
                  </a:lnTo>
                  <a:lnTo>
                    <a:pt x="841" y="101"/>
                  </a:lnTo>
                  <a:lnTo>
                    <a:pt x="841" y="180"/>
                  </a:lnTo>
                  <a:lnTo>
                    <a:pt x="831" y="180"/>
                  </a:lnTo>
                  <a:close/>
                  <a:moveTo>
                    <a:pt x="831" y="71"/>
                  </a:moveTo>
                  <a:lnTo>
                    <a:pt x="831" y="5"/>
                  </a:lnTo>
                  <a:lnTo>
                    <a:pt x="841" y="5"/>
                  </a:lnTo>
                  <a:lnTo>
                    <a:pt x="841" y="71"/>
                  </a:lnTo>
                  <a:lnTo>
                    <a:pt x="831" y="7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62480" y="3127320"/>
              <a:ext cx="69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earch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61760" y="3303720"/>
              <a:ext cx="84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ordinato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63560" y="3478320"/>
              <a:ext cx="823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iews list of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61040" y="3651120"/>
              <a:ext cx="878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tients and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62480" y="3827520"/>
              <a:ext cx="951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lects which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9240" y="4003560"/>
              <a:ext cx="1227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nes to approach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62120" y="4178160"/>
              <a:ext cx="893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 person fo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59600" y="4354560"/>
              <a:ext cx="1040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valuation and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63560" y="4527360"/>
              <a:ext cx="80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cruitment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546440" y="1873080"/>
              <a:ext cx="63720" cy="444600"/>
            </a:xfrm>
            <a:custGeom>
              <a:avLst/>
              <a:gdLst/>
              <a:ahLst/>
              <a:rect l="l" t="t" r="r" b="b"/>
              <a:pathLst>
                <a:path w="400" h="2833">
                  <a:moveTo>
                    <a:pt x="234" y="33"/>
                  </a:moveTo>
                  <a:lnTo>
                    <a:pt x="234" y="2500"/>
                  </a:lnTo>
                  <a:cubicBezTo>
                    <a:pt x="234" y="2519"/>
                    <a:pt x="219" y="2533"/>
                    <a:pt x="200" y="2533"/>
                  </a:cubicBezTo>
                  <a:cubicBezTo>
                    <a:pt x="182" y="2533"/>
                    <a:pt x="167" y="2519"/>
                    <a:pt x="167" y="2500"/>
                  </a:cubicBezTo>
                  <a:lnTo>
                    <a:pt x="167" y="33"/>
                  </a:lnTo>
                  <a:cubicBezTo>
                    <a:pt x="167" y="15"/>
                    <a:pt x="182" y="0"/>
                    <a:pt x="200" y="0"/>
                  </a:cubicBezTo>
                  <a:cubicBezTo>
                    <a:pt x="219" y="0"/>
                    <a:pt x="234" y="15"/>
                    <a:pt x="234" y="33"/>
                  </a:cubicBezTo>
                  <a:close/>
                  <a:moveTo>
                    <a:pt x="400" y="2433"/>
                  </a:moveTo>
                  <a:lnTo>
                    <a:pt x="200" y="2833"/>
                  </a:lnTo>
                  <a:lnTo>
                    <a:pt x="0" y="2433"/>
                  </a:lnTo>
                  <a:lnTo>
                    <a:pt x="400" y="243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000160" y="4419720"/>
              <a:ext cx="503280" cy="61920"/>
            </a:xfrm>
            <a:custGeom>
              <a:avLst/>
              <a:gdLst/>
              <a:ahLst/>
              <a:rect l="l" t="t" r="r" b="b"/>
              <a:pathLst>
                <a:path w="317" h="39">
                  <a:moveTo>
                    <a:pt x="317" y="24"/>
                  </a:moveTo>
                  <a:lnTo>
                    <a:pt x="251" y="24"/>
                  </a:lnTo>
                  <a:lnTo>
                    <a:pt x="251" y="16"/>
                  </a:lnTo>
                  <a:lnTo>
                    <a:pt x="317" y="16"/>
                  </a:lnTo>
                  <a:lnTo>
                    <a:pt x="317" y="24"/>
                  </a:lnTo>
                  <a:close/>
                  <a:moveTo>
                    <a:pt x="227" y="24"/>
                  </a:moveTo>
                  <a:lnTo>
                    <a:pt x="161" y="24"/>
                  </a:lnTo>
                  <a:lnTo>
                    <a:pt x="161" y="16"/>
                  </a:lnTo>
                  <a:lnTo>
                    <a:pt x="227" y="16"/>
                  </a:lnTo>
                  <a:lnTo>
                    <a:pt x="227" y="24"/>
                  </a:lnTo>
                  <a:close/>
                  <a:moveTo>
                    <a:pt x="136" y="24"/>
                  </a:moveTo>
                  <a:lnTo>
                    <a:pt x="70" y="24"/>
                  </a:lnTo>
                  <a:lnTo>
                    <a:pt x="70" y="16"/>
                  </a:lnTo>
                  <a:lnTo>
                    <a:pt x="136" y="16"/>
                  </a:lnTo>
                  <a:lnTo>
                    <a:pt x="136" y="24"/>
                  </a:lnTo>
                  <a:close/>
                  <a:moveTo>
                    <a:pt x="45" y="24"/>
                  </a:moveTo>
                  <a:lnTo>
                    <a:pt x="33" y="24"/>
                  </a:lnTo>
                  <a:lnTo>
                    <a:pt x="33" y="16"/>
                  </a:lnTo>
                  <a:lnTo>
                    <a:pt x="45" y="16"/>
                  </a:lnTo>
                  <a:lnTo>
                    <a:pt x="45" y="24"/>
                  </a:lnTo>
                  <a:close/>
                  <a:moveTo>
                    <a:pt x="40" y="39"/>
                  </a:moveTo>
                  <a:lnTo>
                    <a:pt x="0" y="20"/>
                  </a:lnTo>
                  <a:lnTo>
                    <a:pt x="40" y="0"/>
                  </a:lnTo>
                  <a:lnTo>
                    <a:pt x="40" y="3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610160" y="3505320"/>
              <a:ext cx="61920" cy="569880"/>
            </a:xfrm>
            <a:custGeom>
              <a:avLst/>
              <a:gdLst/>
              <a:ahLst/>
              <a:rect l="l" t="t" r="r" b="b"/>
              <a:pathLst>
                <a:path w="400" h="3633">
                  <a:moveTo>
                    <a:pt x="234" y="33"/>
                  </a:moveTo>
                  <a:lnTo>
                    <a:pt x="234" y="3300"/>
                  </a:lnTo>
                  <a:cubicBezTo>
                    <a:pt x="234" y="3319"/>
                    <a:pt x="219" y="3333"/>
                    <a:pt x="200" y="3333"/>
                  </a:cubicBezTo>
                  <a:cubicBezTo>
                    <a:pt x="182" y="3333"/>
                    <a:pt x="167" y="3319"/>
                    <a:pt x="167" y="3300"/>
                  </a:cubicBezTo>
                  <a:lnTo>
                    <a:pt x="167" y="33"/>
                  </a:lnTo>
                  <a:cubicBezTo>
                    <a:pt x="167" y="15"/>
                    <a:pt x="182" y="0"/>
                    <a:pt x="200" y="0"/>
                  </a:cubicBezTo>
                  <a:cubicBezTo>
                    <a:pt x="219" y="0"/>
                    <a:pt x="234" y="15"/>
                    <a:pt x="234" y="33"/>
                  </a:cubicBezTo>
                  <a:close/>
                  <a:moveTo>
                    <a:pt x="400" y="3233"/>
                  </a:moveTo>
                  <a:lnTo>
                    <a:pt x="200" y="3633"/>
                  </a:lnTo>
                  <a:lnTo>
                    <a:pt x="0" y="3233"/>
                  </a:lnTo>
                  <a:lnTo>
                    <a:pt x="400" y="323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70120" y="1690560"/>
              <a:ext cx="250560" cy="1254240"/>
            </a:xfrm>
            <a:custGeom>
              <a:avLst/>
              <a:gdLst/>
              <a:ahLst/>
              <a:rect l="l" t="t" r="r" b="b"/>
              <a:pathLst>
                <a:path w="158" h="790">
                  <a:moveTo>
                    <a:pt x="0" y="592"/>
                  </a:moveTo>
                  <a:lnTo>
                    <a:pt x="39" y="592"/>
                  </a:lnTo>
                  <a:lnTo>
                    <a:pt x="39" y="0"/>
                  </a:lnTo>
                  <a:lnTo>
                    <a:pt x="118" y="0"/>
                  </a:lnTo>
                  <a:lnTo>
                    <a:pt x="118" y="592"/>
                  </a:lnTo>
                  <a:lnTo>
                    <a:pt x="158" y="592"/>
                  </a:lnTo>
                  <a:lnTo>
                    <a:pt x="79" y="790"/>
                  </a:lnTo>
                  <a:lnTo>
                    <a:pt x="0" y="592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73200" y="5357880"/>
              <a:ext cx="1334880" cy="633240"/>
            </a:xfrm>
            <a:custGeom>
              <a:avLst/>
              <a:gdLst/>
              <a:ahLst/>
              <a:rect l="l" t="t" r="r" b="b"/>
              <a:pathLst>
                <a:path w="841" h="399">
                  <a:moveTo>
                    <a:pt x="836" y="10"/>
                  </a:moveTo>
                  <a:lnTo>
                    <a:pt x="757" y="10"/>
                  </a:lnTo>
                  <a:lnTo>
                    <a:pt x="757" y="0"/>
                  </a:lnTo>
                  <a:lnTo>
                    <a:pt x="836" y="0"/>
                  </a:lnTo>
                  <a:lnTo>
                    <a:pt x="836" y="10"/>
                  </a:lnTo>
                  <a:close/>
                  <a:moveTo>
                    <a:pt x="728" y="10"/>
                  </a:moveTo>
                  <a:lnTo>
                    <a:pt x="648" y="10"/>
                  </a:lnTo>
                  <a:lnTo>
                    <a:pt x="648" y="0"/>
                  </a:lnTo>
                  <a:lnTo>
                    <a:pt x="728" y="0"/>
                  </a:lnTo>
                  <a:lnTo>
                    <a:pt x="728" y="10"/>
                  </a:lnTo>
                  <a:close/>
                  <a:moveTo>
                    <a:pt x="619" y="10"/>
                  </a:moveTo>
                  <a:lnTo>
                    <a:pt x="539" y="10"/>
                  </a:lnTo>
                  <a:lnTo>
                    <a:pt x="539" y="0"/>
                  </a:lnTo>
                  <a:lnTo>
                    <a:pt x="619" y="0"/>
                  </a:lnTo>
                  <a:lnTo>
                    <a:pt x="619" y="10"/>
                  </a:lnTo>
                  <a:close/>
                  <a:moveTo>
                    <a:pt x="510" y="10"/>
                  </a:moveTo>
                  <a:lnTo>
                    <a:pt x="431" y="10"/>
                  </a:lnTo>
                  <a:lnTo>
                    <a:pt x="431" y="0"/>
                  </a:lnTo>
                  <a:lnTo>
                    <a:pt x="510" y="0"/>
                  </a:lnTo>
                  <a:lnTo>
                    <a:pt x="510" y="10"/>
                  </a:lnTo>
                  <a:close/>
                  <a:moveTo>
                    <a:pt x="401" y="10"/>
                  </a:moveTo>
                  <a:lnTo>
                    <a:pt x="322" y="10"/>
                  </a:lnTo>
                  <a:lnTo>
                    <a:pt x="322" y="0"/>
                  </a:lnTo>
                  <a:lnTo>
                    <a:pt x="401" y="0"/>
                  </a:lnTo>
                  <a:lnTo>
                    <a:pt x="401" y="10"/>
                  </a:lnTo>
                  <a:close/>
                  <a:moveTo>
                    <a:pt x="292" y="10"/>
                  </a:moveTo>
                  <a:lnTo>
                    <a:pt x="213" y="10"/>
                  </a:lnTo>
                  <a:lnTo>
                    <a:pt x="213" y="0"/>
                  </a:lnTo>
                  <a:lnTo>
                    <a:pt x="292" y="0"/>
                  </a:lnTo>
                  <a:lnTo>
                    <a:pt x="292" y="10"/>
                  </a:lnTo>
                  <a:close/>
                  <a:moveTo>
                    <a:pt x="183" y="10"/>
                  </a:moveTo>
                  <a:lnTo>
                    <a:pt x="104" y="10"/>
                  </a:lnTo>
                  <a:lnTo>
                    <a:pt x="104" y="0"/>
                  </a:lnTo>
                  <a:lnTo>
                    <a:pt x="183" y="0"/>
                  </a:lnTo>
                  <a:lnTo>
                    <a:pt x="183" y="10"/>
                  </a:lnTo>
                  <a:close/>
                  <a:moveTo>
                    <a:pt x="74" y="10"/>
                  </a:moveTo>
                  <a:lnTo>
                    <a:pt x="5" y="10"/>
                  </a:lnTo>
                  <a:lnTo>
                    <a:pt x="10" y="5"/>
                  </a:lnTo>
                  <a:lnTo>
                    <a:pt x="10" y="15"/>
                  </a:lnTo>
                  <a:lnTo>
                    <a:pt x="0" y="15"/>
                  </a:lnTo>
                  <a:lnTo>
                    <a:pt x="0" y="0"/>
                  </a:lnTo>
                  <a:lnTo>
                    <a:pt x="74" y="0"/>
                  </a:lnTo>
                  <a:lnTo>
                    <a:pt x="74" y="10"/>
                  </a:lnTo>
                  <a:close/>
                  <a:moveTo>
                    <a:pt x="10" y="45"/>
                  </a:moveTo>
                  <a:lnTo>
                    <a:pt x="10" y="124"/>
                  </a:lnTo>
                  <a:lnTo>
                    <a:pt x="0" y="124"/>
                  </a:lnTo>
                  <a:lnTo>
                    <a:pt x="0" y="45"/>
                  </a:lnTo>
                  <a:lnTo>
                    <a:pt x="10" y="45"/>
                  </a:lnTo>
                  <a:close/>
                  <a:moveTo>
                    <a:pt x="10" y="153"/>
                  </a:moveTo>
                  <a:lnTo>
                    <a:pt x="10" y="232"/>
                  </a:lnTo>
                  <a:lnTo>
                    <a:pt x="0" y="232"/>
                  </a:lnTo>
                  <a:lnTo>
                    <a:pt x="0" y="153"/>
                  </a:lnTo>
                  <a:lnTo>
                    <a:pt x="10" y="153"/>
                  </a:lnTo>
                  <a:close/>
                  <a:moveTo>
                    <a:pt x="10" y="262"/>
                  </a:moveTo>
                  <a:lnTo>
                    <a:pt x="10" y="341"/>
                  </a:lnTo>
                  <a:lnTo>
                    <a:pt x="0" y="341"/>
                  </a:lnTo>
                  <a:lnTo>
                    <a:pt x="0" y="262"/>
                  </a:lnTo>
                  <a:lnTo>
                    <a:pt x="10" y="262"/>
                  </a:lnTo>
                  <a:close/>
                  <a:moveTo>
                    <a:pt x="10" y="371"/>
                  </a:moveTo>
                  <a:lnTo>
                    <a:pt x="10" y="394"/>
                  </a:lnTo>
                  <a:lnTo>
                    <a:pt x="5" y="389"/>
                  </a:lnTo>
                  <a:lnTo>
                    <a:pt x="61" y="389"/>
                  </a:lnTo>
                  <a:lnTo>
                    <a:pt x="61" y="399"/>
                  </a:lnTo>
                  <a:lnTo>
                    <a:pt x="0" y="399"/>
                  </a:lnTo>
                  <a:lnTo>
                    <a:pt x="0" y="371"/>
                  </a:lnTo>
                  <a:lnTo>
                    <a:pt x="10" y="371"/>
                  </a:lnTo>
                  <a:close/>
                  <a:moveTo>
                    <a:pt x="91" y="389"/>
                  </a:moveTo>
                  <a:lnTo>
                    <a:pt x="170" y="389"/>
                  </a:lnTo>
                  <a:lnTo>
                    <a:pt x="170" y="399"/>
                  </a:lnTo>
                  <a:lnTo>
                    <a:pt x="91" y="399"/>
                  </a:lnTo>
                  <a:lnTo>
                    <a:pt x="91" y="389"/>
                  </a:lnTo>
                  <a:close/>
                  <a:moveTo>
                    <a:pt x="200" y="389"/>
                  </a:moveTo>
                  <a:lnTo>
                    <a:pt x="279" y="389"/>
                  </a:lnTo>
                  <a:lnTo>
                    <a:pt x="279" y="399"/>
                  </a:lnTo>
                  <a:lnTo>
                    <a:pt x="200" y="399"/>
                  </a:lnTo>
                  <a:lnTo>
                    <a:pt x="200" y="389"/>
                  </a:lnTo>
                  <a:close/>
                  <a:moveTo>
                    <a:pt x="309" y="389"/>
                  </a:moveTo>
                  <a:lnTo>
                    <a:pt x="388" y="389"/>
                  </a:lnTo>
                  <a:lnTo>
                    <a:pt x="388" y="399"/>
                  </a:lnTo>
                  <a:lnTo>
                    <a:pt x="309" y="399"/>
                  </a:lnTo>
                  <a:lnTo>
                    <a:pt x="309" y="389"/>
                  </a:lnTo>
                  <a:close/>
                  <a:moveTo>
                    <a:pt x="417" y="389"/>
                  </a:moveTo>
                  <a:lnTo>
                    <a:pt x="497" y="389"/>
                  </a:lnTo>
                  <a:lnTo>
                    <a:pt x="497" y="399"/>
                  </a:lnTo>
                  <a:lnTo>
                    <a:pt x="417" y="399"/>
                  </a:lnTo>
                  <a:lnTo>
                    <a:pt x="417" y="389"/>
                  </a:lnTo>
                  <a:close/>
                  <a:moveTo>
                    <a:pt x="526" y="389"/>
                  </a:moveTo>
                  <a:lnTo>
                    <a:pt x="606" y="389"/>
                  </a:lnTo>
                  <a:lnTo>
                    <a:pt x="606" y="399"/>
                  </a:lnTo>
                  <a:lnTo>
                    <a:pt x="526" y="399"/>
                  </a:lnTo>
                  <a:lnTo>
                    <a:pt x="526" y="389"/>
                  </a:lnTo>
                  <a:close/>
                  <a:moveTo>
                    <a:pt x="635" y="389"/>
                  </a:moveTo>
                  <a:lnTo>
                    <a:pt x="714" y="389"/>
                  </a:lnTo>
                  <a:lnTo>
                    <a:pt x="714" y="399"/>
                  </a:lnTo>
                  <a:lnTo>
                    <a:pt x="635" y="399"/>
                  </a:lnTo>
                  <a:lnTo>
                    <a:pt x="635" y="389"/>
                  </a:lnTo>
                  <a:close/>
                  <a:moveTo>
                    <a:pt x="744" y="389"/>
                  </a:moveTo>
                  <a:lnTo>
                    <a:pt x="823" y="389"/>
                  </a:lnTo>
                  <a:lnTo>
                    <a:pt x="823" y="399"/>
                  </a:lnTo>
                  <a:lnTo>
                    <a:pt x="744" y="399"/>
                  </a:lnTo>
                  <a:lnTo>
                    <a:pt x="744" y="389"/>
                  </a:lnTo>
                  <a:close/>
                  <a:moveTo>
                    <a:pt x="831" y="377"/>
                  </a:moveTo>
                  <a:lnTo>
                    <a:pt x="831" y="298"/>
                  </a:lnTo>
                  <a:lnTo>
                    <a:pt x="841" y="298"/>
                  </a:lnTo>
                  <a:lnTo>
                    <a:pt x="841" y="377"/>
                  </a:lnTo>
                  <a:lnTo>
                    <a:pt x="831" y="377"/>
                  </a:lnTo>
                  <a:close/>
                  <a:moveTo>
                    <a:pt x="831" y="269"/>
                  </a:moveTo>
                  <a:lnTo>
                    <a:pt x="831" y="189"/>
                  </a:lnTo>
                  <a:lnTo>
                    <a:pt x="841" y="189"/>
                  </a:lnTo>
                  <a:lnTo>
                    <a:pt x="841" y="269"/>
                  </a:lnTo>
                  <a:lnTo>
                    <a:pt x="831" y="269"/>
                  </a:lnTo>
                  <a:close/>
                  <a:moveTo>
                    <a:pt x="831" y="160"/>
                  </a:moveTo>
                  <a:lnTo>
                    <a:pt x="831" y="81"/>
                  </a:lnTo>
                  <a:lnTo>
                    <a:pt x="841" y="81"/>
                  </a:lnTo>
                  <a:lnTo>
                    <a:pt x="841" y="160"/>
                  </a:lnTo>
                  <a:lnTo>
                    <a:pt x="831" y="160"/>
                  </a:lnTo>
                  <a:close/>
                  <a:moveTo>
                    <a:pt x="831" y="51"/>
                  </a:moveTo>
                  <a:lnTo>
                    <a:pt x="831" y="5"/>
                  </a:lnTo>
                  <a:lnTo>
                    <a:pt x="841" y="5"/>
                  </a:lnTo>
                  <a:lnTo>
                    <a:pt x="841" y="51"/>
                  </a:lnTo>
                  <a:lnTo>
                    <a:pt x="831" y="5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63200" y="5423040"/>
              <a:ext cx="53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inica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59600" y="5597640"/>
              <a:ext cx="1056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valuation and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62840" y="5772240"/>
              <a:ext cx="823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cruit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56680" y="73512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669000" y="777960"/>
              <a:ext cx="18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750000" y="7779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797520" y="777960"/>
              <a:ext cx="18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958080" y="7779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005600" y="777960"/>
              <a:ext cx="18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666720" y="6264360"/>
            <a:ext cx="5841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0000"/>
                </a:solidFill>
                <a:uFillTx/>
                <a:latin typeface="Times New Roman"/>
              </a:rPr>
              <a:t>Focus of Next Talk by Rachel Richess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Role of Semantic Web Technologies: Examples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Data Conten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ise, Generalized and Extensibl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reable Open Source Models of Clinic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Data Exchange and Interoperabilit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-use and alignment of independently developed Industry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Ways of saying the same 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mputable Protocol Specificat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ise and Unambiguous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Data Retrieva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ility to identify relevant patients in the absence of explicit data about a clinical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Precise, Generalized and Extensible Specifications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35720" y="1066680"/>
            <a:ext cx="703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ystolic Blood Pressure measurement is a pressure meas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at has a value from 0 to 220 and units are mmH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215720" y="1828800"/>
            <a:ext cx="476028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SystolicBloodPressureMeas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equivalent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linical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that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key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value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“SnomedCodeForSystolicBP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and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magnitude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only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float[&gt;= 0.0, &lt;= 220.0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units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value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mmH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36080" y="3886200"/>
            <a:ext cx="701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itting Systolic Blood Pressure Measurement is a systolic bloo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sure measurement taken when a patient is si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67640" y="4876920"/>
            <a:ext cx="455148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SittingSystolicBloodPressureMeas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equivalent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3300"/>
                </a:solidFill>
                <a:uFillTx/>
                <a:latin typeface="Times New Roman"/>
              </a:rPr>
              <a:t>SystolicBloodPressureMeas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that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bodyPosition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value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Si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rtners Information Systems</cp:lastModifiedBy>
  <dcterms:modified xsi:type="dcterms:W3CDTF">2007-11-08T13:41:16Z</dcterms:modified>
  <cp:revision>35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